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43B6-A026-4892-98FF-3F8427D0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E50A-C74E-40E8-A25F-70F25816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9B0E-577A-4DD0-B8B3-EBA5A957B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A0CF-F911-4770-863D-358D122BD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F883-97C3-47D7-B03C-EB487E8D5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45F4-77BA-4CB5-B1E1-14737198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11C1-A9D8-4708-BBA6-3DE069DF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62EA-325D-4A44-8605-0D597F9E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3FC2-4E40-43F9-9CB4-1B647623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525B-55D9-4603-9A50-96067B32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A662-2A57-4281-91B1-74E82F4E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C0E6-2121-4034-8B00-437F1B39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FC3C-6ED7-4FCE-8799-9BD62667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77CB-C70E-414E-885E-C6BF570A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5240-4DFB-49AA-86E9-93498401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240A-9FC3-43EE-B738-FC7EE7AA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A488-E990-49F4-8E90-D9F06FFD2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3B5D-1DC1-4935-AC3D-CA5F513C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7A70-C67E-4538-9D6E-78F62D40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C46E-0138-423E-AD79-ACB97D1F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91C4-36D2-4D29-BEB9-4B0E03A9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4A0E-973C-4302-A8B0-F42B3961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DEED-2A27-402C-89BC-154E4168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6672-6F6E-4623-8470-522C47B7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6600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C7AC-FE6A-4CEF-9123-AF4D995041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6600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B78E-D537-4A8A-90A9-1A6E34AE05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5977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Arial Black"/>
              </a:rPr>
              <a:t>Личностно ориентированный   подход к обучению и воспитанию детей дошкольного и младшего школьного возраста </a:t>
            </a:r>
            <a:br>
              <a:rPr sz="4000"/>
            </a:br>
            <a:r>
              <a:rPr b="1" i="1" lang="ru-RU" sz="4000" spc="-1" strike="noStrike">
                <a:solidFill>
                  <a:srgbClr val="ffcc00"/>
                </a:solidFill>
                <a:latin typeface="Arial Black"/>
              </a:rPr>
              <a:t>(в рамках проекта </a:t>
            </a:r>
            <a:br>
              <a:rPr sz="4000"/>
            </a:br>
            <a:r>
              <a:rPr b="1" i="1" lang="ru-RU" sz="4000" spc="-1" strike="noStrike">
                <a:solidFill>
                  <a:srgbClr val="ffcc00"/>
                </a:solidFill>
                <a:latin typeface="Arial Black"/>
              </a:rPr>
              <a:t>«Школа будущего»)</a:t>
            </a: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03280" y="4149360"/>
            <a:ext cx="6400800" cy="17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 Black"/>
              </a:rPr>
              <a:t>Особенности проведения личностно-ориентированного урока в начальной школе:</a:t>
            </a:r>
            <a:endParaRPr b="0" lang="en-US" sz="2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отказ от фронтальной работы как основной формы проведения урока и использование различных вариантов индивидуальной, парной или групповой работы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использование в работе разнообразного дидактического материала, позволяющего ученику развивать различные сенсорные каналы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65520"/>
            <a:ext cx="769608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оявлять избирательность к типу, виду и форме учебного задания, характеру его выполнения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спользование различных методов и способов работы с учебным материалом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- различные способы закрепления материала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- создание критических ситуаций на уроке для организации учебного или воспитательного диалога с учащимися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217800"/>
            <a:ext cx="769608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9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обязательная оценка и коррекция процесса и результата учебной деятельности каждого учащегося на уроке,  самооценка и взаимооценка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оздание условий для формирования у каждого ученика высокой самооценки,  уверенности в своих силах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спользование индивидуальных творческих домашних заданий с дальнейшей их </a:t>
            </a:r>
            <a:r>
              <a:rPr b="0" i="1" lang="ru-RU" sz="3100" spc="-1" strike="noStrike" u="sng">
                <a:solidFill>
                  <a:srgbClr val="000000"/>
                </a:solidFill>
                <a:uFillTx/>
                <a:latin typeface="Arial"/>
              </a:rPr>
              <a:t>оценкой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88160"/>
            <a:ext cx="769608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25992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- оригинальность, самостоятельность выполнения, стремление ученика к поиску нестандартных способов решения, использование альтернативных источников информации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оведение с детьми рефлексии урока (что узнали? что понравилось? что хотелось бы изменить?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3300"/>
                </a:solidFill>
                <a:latin typeface="Arial Black"/>
              </a:rPr>
              <a:t>Будьте здоровы, счастливы и успешны!</a:t>
            </a:r>
            <a:endParaRPr b="0" lang="en-US" sz="2900" spc="-1" strike="noStrike">
              <a:solidFill>
                <a:srgbClr val="ff0000"/>
              </a:solidFill>
              <a:latin typeface="Arial Black"/>
            </a:endParaRPr>
          </a:p>
        </p:txBody>
      </p:sp>
      <p:pic>
        <p:nvPicPr>
          <p:cNvPr id="117" name="Picture 4" descr="19703"/>
          <p:cNvPicPr/>
          <p:nvPr/>
        </p:nvPicPr>
        <p:blipFill>
          <a:blip r:embed="rId1"/>
          <a:stretch/>
        </p:blipFill>
        <p:spPr>
          <a:xfrm>
            <a:off x="1916280" y="1905120"/>
            <a:ext cx="560844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1527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аумова Людмила Васильевн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роректор по внешнему независимому оцениванию и мониторингу качества образования, заведующая учебно-методической лабораторией дошкольного и начального образования</a:t>
            </a:r>
            <a:endParaRPr b="0" lang="en-US" sz="1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6600ff"/>
                </a:solidFill>
                <a:latin typeface="Arial"/>
              </a:rPr>
              <a:t>Личностно ориентированный подход к обучению и воспитанию детей дошкольного и младшего школьного возраст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 Black"/>
              </a:rPr>
              <a:t>Личностно ориентированные технологии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ехнология группового обуч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уманно-личностная технология Ш. Амонашвил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нтерактивное обучен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гровые технолог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альдорфская школ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ехнология Марии Монтессор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итагенные технолог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ехнология развивающего обуч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ехнология проблемного обуч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Чтение и письмо для развития критического мышл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ехнология творчества - ТРИЗ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Если мы говорим о личностно ориентированных технологиях, то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речь пойдет о </a:t>
            </a:r>
            <a:r>
              <a:rPr b="1" i="1" lang="ru-RU" sz="3600" spc="-1" strike="noStrike">
                <a:solidFill>
                  <a:srgbClr val="ffcc00"/>
                </a:solidFill>
                <a:latin typeface="Arial"/>
              </a:rPr>
              <a:t>личност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00"/>
                </a:solidFill>
                <a:latin typeface="Arial"/>
              </a:rPr>
              <a:t>ориентированном обуч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4" descr="16 сент_собрались на дачу"/>
          <p:cNvPicPr/>
          <p:nvPr/>
        </p:nvPicPr>
        <p:blipFill>
          <a:blip r:embed="rId1"/>
          <a:stretch/>
        </p:blipFill>
        <p:spPr>
          <a:xfrm>
            <a:off x="3279600" y="3932280"/>
            <a:ext cx="28767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6600ff"/>
                </a:solidFill>
                <a:latin typeface="Arial Black"/>
              </a:rPr>
              <a:t>Личностно ориентированное обучение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обучение, центром которого является личность ученика, его индивидуальность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убъективный опыт каждого сначала раскрывается, а потом согласовывается с содержанием образования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6600ff"/>
                </a:solidFill>
                <a:latin typeface="Arial Black"/>
              </a:rPr>
              <a:t>Личностно ориентированное обучение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организация деятельности, когда охраняется детство и ребенок;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охраняется, передается  и развивается культура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оздается среда развития ребенка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тимулируется индивидуальное и коллективное творчество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cc00"/>
                </a:solidFill>
                <a:latin typeface="Arial Black"/>
              </a:rPr>
              <a:t>Цель личностно ориентированной школы: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найти, поддержать, развить человека в человеке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заложить в нем механизм саморазвития, самореализации, самозащиты, самовоспитания и пр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ff"/>
                </a:solidFill>
                <a:latin typeface="Arial Black"/>
              </a:rPr>
              <a:t>Особенностью личностно ориентированного обучения является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сть выявления, поддержки и развития познавательных интересов ребенка как носителя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IMG_9381"/>
          <p:cNvPicPr/>
          <p:nvPr/>
        </p:nvPicPr>
        <p:blipFill>
          <a:blip r:embed="rId1"/>
          <a:stretch/>
        </p:blipFill>
        <p:spPr>
          <a:xfrm>
            <a:off x="4356000" y="3284640"/>
            <a:ext cx="4176720" cy="2952720"/>
          </a:xfrm>
          <a:prstGeom prst="rect">
            <a:avLst/>
          </a:prstGeom>
          <a:ln w="3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Для реализации этой цели необходимо: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вивать индивидуальные познавательные способности каждого ребенк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ксимально выявлять, использовать опыт учащегос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мочь личности познать себ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недрять педагогику содружества, сотрудничеств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здать условия для работы с детьми, которые имеют особенности психофизического развит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еспечить развитие и саморазвитие учащегося, учитывая его индивидуальные особеннос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ать возможность каждому  реализовать себя в учебной и познавательной деятель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9:26:53Z</dcterms:created>
  <dc:creator>Проректор</dc:creator>
  <dc:description/>
  <dc:language>en-US</dc:language>
  <cp:lastModifiedBy>Metod</cp:lastModifiedBy>
  <dcterms:modified xsi:type="dcterms:W3CDTF">2010-11-16T07:09:52Z</dcterms:modified>
  <cp:revision>13</cp:revision>
  <dc:subject/>
  <dc:title>Личностно ориентированные технологии</dc:title>
</cp:coreProperties>
</file>