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C267-67F8-4F55-8EFE-AF00CACD0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832C-9516-47D5-B5BD-307C7E56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52E7-649E-4E16-9163-042F5F2A0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DCEE-D45A-4EF4-A473-BCFB1580C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687C-745C-4BA9-AACF-36A193963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2BDE-AF9E-4276-8675-120F8F53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D232-1E2B-45C6-8FF4-8F3FB06F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2B6F-B0F0-4156-BEE2-0CE5B182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11F5-3237-4F7C-847E-B70DBCEE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3D83-F3B9-49E7-9B48-A85B915A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29C4-AD3F-44F2-9B27-929E3E35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4A6B-495F-46AC-95D5-29013091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4F7C-9CF4-46AB-AE67-A57F869C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35F2-9C99-4D7D-8F71-3A0E92B3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EC4C-19D1-4625-B76F-75CAD451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9648-FF2A-4ECB-A782-79041CC05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820B-ECFB-4233-A2E9-485C0D4D6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0C765-A0D0-4C63-AC40-9C66800B2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AB939-664D-4203-BC9A-5E8ECF6B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BD03C-631E-4A31-8D29-D22BEE9F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63303-726A-455B-BA72-68AD9181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BE480-40EE-4468-90BB-C554F01B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BCD8-4FDA-4D23-B9EC-19BA7888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D2AE3-7C9C-4EEA-BF1B-65975A77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1983A-040C-40E8-91D1-D5B5B233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B13BE-3859-4C7E-9419-67C3C23C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D1D5E-2CA5-499C-BD82-B6C3996A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DBAC4-C009-400A-ADA9-D2CBE8B7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9EE45-EF30-4416-8D48-EC9EB6F27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30C0A-78A5-43C8-BF0E-BFAF0557B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381CF-7DDB-447D-AB33-93AD67404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CE988-75EC-4FEB-BFE9-C0B49972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32884-52B9-44FA-B5C2-8E3B1D98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AD1A-DB77-4B7A-B2F7-65B68EC8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6B48A-2DD1-461F-8823-836A1BD1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3C787-6AEB-461F-B382-164BFF17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E2630-882F-4E80-9697-F4FF5C8F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C2B13-FC7E-431D-9032-A07D1FCE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B260E-7963-4B9A-B56A-DE613AA9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31ABC-D222-455A-9707-A4645902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08F08-5E7C-4AD5-A71C-F46AF72A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28EF9-87F9-4F27-9F51-44BCBC2C7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1835C-DB06-4861-BDF1-8D16B0085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0BA9B-07E3-4DC8-B6C7-50C7CED6B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33E3-5290-48F2-911B-F9145BA9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BCDCF-65AD-4189-B690-08EA58C7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B940A-C67A-40E9-8C9E-69B25699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12588-4A78-41EF-A602-99BE2AD9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F5412-28A3-43C2-B8E3-D563D4CD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04CB5-7350-4FE8-BC86-BED6864B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D36C8-C512-4EE9-B689-47F57280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2EA47-CA38-43B9-9047-9A79B4C8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6C362-E6EC-4C18-B3BD-43D36D59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D1BB7-F98B-4E2A-B0DF-AC2C72A0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305DD-11CF-4F5E-AC3A-E31C5160A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E6C2-AA23-422F-9A23-4B9D1E55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A098C-A870-4422-A6AB-CAB854681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B2EA0-D254-4D2A-84FE-9D55F3EBA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CBB1C-B3D5-4F53-8C13-F749A4FB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D76AC-6684-4F9F-8B89-25554253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ADB91-937C-4D81-8715-8D215B55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9C251-7191-480C-B774-2B18FC69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FB167-9C10-4A8B-B158-4148B5D5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64640-745D-4EAB-AF7A-D27E8759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AB61D-BB12-44EE-B902-4AF7D87A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9A9DC-8B84-4FB0-AB63-C83BBD8E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D615-BC89-494A-AD43-7C992CD5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1DC31-0E7E-41EB-8235-F3FA5AA2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37C29-1A06-4EB2-B6AC-6F698466D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6412D-3A4A-4588-9A13-4AD2C15CB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EAEDD-C32A-4196-95A9-BF0496091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1DD37-D473-403C-97A2-F3E01B94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669B6-6864-4706-8819-CBDDAD90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95DC2-06BD-4975-A367-7599E4F4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91003-B52A-4843-90FB-8DB51D9A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0A1D1-965B-499E-8F38-4F4F8255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A029B-EF8C-419E-B5DA-E01200E9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8A21-04A6-4B5B-9E68-65F430E1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0BC44-C1FC-4C9D-BAA1-FC9F41FD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72F0B-F949-46FD-94FD-66B14640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BEEA9-DAAA-4449-AE03-CB7C064A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60CEB-FD04-475E-BACB-E0D1849A6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CAC3E-6294-4950-8CBD-A92314F9B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3F36-7F11-49CE-A389-25239913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Text Box 5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6751-8A65-4F06-ACA6-8B7B37E1E69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5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7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E25C-4E23-4F6D-AF0B-5D12A9E411A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3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5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9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2951-A401-4BB8-BA9E-061148EA548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3B0E-C798-4A8F-BC7D-54C0F632EAF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3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A824-376A-4844-9CEE-C1666000A3D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D302-2535-4501-A856-E3BAE14968D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3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7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8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AC92-44E8-4973-A635-5BD7506D63A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Прямоугольник 2"/>
          <p:cNvSpPr/>
          <p:nvPr/>
        </p:nvSpPr>
        <p:spPr>
          <a:xfrm>
            <a:off x="826920" y="476280"/>
            <a:ext cx="7921800" cy="52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32d2e"/>
                </a:solidFill>
                <a:latin typeface="Corbel"/>
              </a:rPr>
              <a:t>ЛИЧНОСТНО ОРИЕНТИРОВАННЫЙ   ПОДХОД К ОБУЧЕНИЮ И ВОСПИТАНИЮ ДЕТЕЙ ДОШКОЛЬНОГО И МЛАДШЕГО ШКОЛЬНОГО ВОЗРАС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32d2e"/>
                </a:solidFill>
                <a:latin typeface="Corbel"/>
              </a:rPr>
              <a:t>(В РАМКАХ ПРОЕКТА «ШКОЛА БУДУЩЕГО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74995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b0f0"/>
                </a:solidFill>
                <a:latin typeface="Corbel"/>
              </a:rPr>
              <a:t>Личностно ориентированное обучение -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Прямоугольник 4"/>
          <p:cNvSpPr/>
          <p:nvPr/>
        </p:nvSpPr>
        <p:spPr>
          <a:xfrm>
            <a:off x="1692360" y="1773360"/>
            <a:ext cx="6500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учение, центром которого является личность ученика, его индивидуальность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субъективный опыт каждого сначала раскрывается, а потом согласовывается с содержанием образо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571680"/>
            <a:ext cx="74995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i="1" lang="ru-RU" sz="2500" spc="-1" strike="noStrike">
                <a:solidFill>
                  <a:srgbClr val="0070c0"/>
                </a:solidFill>
                <a:latin typeface="Corbel"/>
              </a:rPr>
              <a:t>Правила личностно ориентированного образования</a:t>
            </a:r>
            <a:br>
              <a:rPr sz="2500"/>
            </a:b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двергать ревизии традиционные методы, формы, средства воспитания, так как они разрабатывались для других целей и в других социально-экономических условиях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Исключить методы наказания, унижающие личность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Формы организации воспитательного процесса не должны наносить ущерба здоровью детей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ощрять стремление ребенка честно относиться к своим обязанностям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могать обнаруживать ошибки.  Принципиально, но доброжелательно обсуждать плохие поступки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ддерживать эмоциональное благополучие ребенка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Формировать положительную самооценку ребенка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стоянно наращивать требования, закреплять достигнутые результат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1434960" y="713880"/>
            <a:ext cx="7499520" cy="553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Безусловно понимать, принимать, любить ребенка доброй, но требовательной любовью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Жить интересами, переживаниями ребенка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Искренне радоваться каждому успеху ребенка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едоставлять ребенку возможности для самоутверждения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стоянно напоминать ребенку, чего от него требуют, каким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хотят его видеть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Учитывать состояние и настроение ребенка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лушать ребенка очень внимательно, демонстративно отложив в сторону самую срочную работу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лучать удовольствие от общения с детьми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Разговаривать с детьми так, как они хотят, чтобы с ними разговаривали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суждать поступок, но уважать личность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rbel"/>
              </a:rPr>
              <a:t>Деятельность учителя на уроке с личностно ориентированной направленностью: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спользование проблемных творческих задани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именение заданий, позволяющих ученику самому выбирать тип, вид, форму материал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оздание положительного  эмоционального настроя на работу всех учеников в ходе урок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ообщение в начале урока не только темы, но и организации учебной деятельности в ходе урок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бсуждение с детьми в конце урока не только того, что «мы узнали», чем овладели, но и того, что понравилось, что не понравилось и почему, что бы хотелось сделать еще раз, а что сделать по-другому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1434960" y="857160"/>
            <a:ext cx="7499520" cy="53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ценка (поощрение) при опросе на уроке не только правильного ответа ученика, но и анализ того, как ученик рассуждал, какой способ использовал, почему и в чем ошибалс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тметка, выставляемая ученику в конце урока, должна аргументироваться по ряду параметров: правильности, самостоятельности, оригинальност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и задании на дом называется не только тема и объем задания, но и подробно разъясняется, как следует рационально организовать свою учебную работу при выполнении домашнего задан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1" lang="ru-RU" sz="2300" spc="-1" strike="noStrike">
                <a:solidFill>
                  <a:srgbClr val="ff0000"/>
                </a:solidFill>
                <a:latin typeface="Corbel"/>
                <a:ea typeface="Times New Roman"/>
              </a:rPr>
              <a:t>Профессиональный рост  педагогического коллектива:</a:t>
            </a:r>
            <a:br>
              <a:rPr sz="2300"/>
            </a:br>
            <a:endParaRPr b="0" lang="en-US" sz="2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7030a0"/>
                </a:solidFill>
                <a:latin typeface="Corbel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7030a0"/>
                </a:solidFill>
                <a:latin typeface="Corbel"/>
                <a:ea typeface="Times New Roman"/>
              </a:rPr>
              <a:t>формирование конкурентноспособного педагогического коллектива; обучение коллектива строить собственные инновационные педагогические  проекты, проводить мониторинговые исследования, экспертные оценки результатов инновационной деятельности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Corbel"/>
                <a:ea typeface="Times New Roman"/>
              </a:rPr>
              <a:t>     </a:t>
            </a:r>
            <a:r>
              <a:rPr b="1" i="1" lang="ru-RU" sz="2600" spc="-1" strike="noStrike">
                <a:solidFill>
                  <a:srgbClr val="ff0000"/>
                </a:solidFill>
                <a:latin typeface="Corbel"/>
                <a:ea typeface="Times New Roman"/>
              </a:rPr>
              <a:t>Методы, технологии: </a:t>
            </a:r>
            <a:r>
              <a:rPr b="1" lang="ru-RU" sz="2600" spc="-1" strike="noStrike">
                <a:solidFill>
                  <a:srgbClr val="7030a0"/>
                </a:solidFill>
                <a:latin typeface="Corbel"/>
                <a:ea typeface="Times New Roman"/>
              </a:rPr>
              <a:t>информационно-коммуникативные технологии, технология деятельностного метода, метода проектов, интерактивные методы, тренинги и пр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Corbel"/>
              </a:rPr>
              <a:t>Успехов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1" name="Picture 2" descr="C:\Documents and Settings\Администратор\Рабочий стол\мое фото\Новое изображение11.JPG"/>
          <p:cNvPicPr/>
          <p:nvPr/>
        </p:nvPicPr>
        <p:blipFill>
          <a:blip r:embed="rId1"/>
          <a:stretch/>
        </p:blipFill>
        <p:spPr>
          <a:xfrm>
            <a:off x="1584360" y="1447920"/>
            <a:ext cx="7200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4T05:57:35Z</dcterms:created>
  <dc:creator>000</dc:creator>
  <dc:description/>
  <dc:language>en-US</dc:language>
  <cp:lastModifiedBy>Metod</cp:lastModifiedBy>
  <dcterms:modified xsi:type="dcterms:W3CDTF">2011-09-28T07:31:58Z</dcterms:modified>
  <cp:revision>13</cp:revision>
  <dc:subject/>
  <dc:title>    </dc:title>
</cp:coreProperties>
</file>