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77B-6E6F-4E80-B1D4-8925A0F3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AAC-AD9C-4FD0-B668-26E95A25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916-1B4C-4F7E-A1A1-5E590C21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D10-752E-4B90-8F47-1F9BFA8C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8214-F9BD-4F7A-A60A-DCD0EE45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98C3-E9D7-46DE-AED6-10F21404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BA65-3E83-4F1D-A731-DB3F569E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A7CB-58B6-4B83-873A-A08761E9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0203-E2D5-46DA-895D-77AAF985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3FD5-F52C-4D77-A12E-D2ABC489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3CFD-C190-4854-A371-17689628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32F-5733-4B07-BDB2-38AA7A2E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66D8-43AB-444F-8322-C90F97BF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9005-54D4-485C-B503-219E9931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96BE-BCB1-43AD-868E-8B83D6E4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E1AC-9B09-4EB6-A74C-7163646E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1F85-083D-41A8-B3C5-4B679863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56B9-A2F6-4001-8803-9E58E0B3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66AB-E27E-4571-8BDC-C8C347AC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48564-AB6E-478B-8403-852F4220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22244-C09C-47A1-BCC3-436C143E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7BBDD-95F4-4A93-A238-8E6EAF1D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E2A-9857-4AC0-A0B9-6B348048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BE56-77BD-4641-B376-26F364D4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1DB70-1218-4865-90F8-03549297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62F5-AD93-4D90-BB76-A4C0CD4A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F0BF8-FF71-40A5-B6B0-C9F7415C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A727-C821-4AE1-AF3B-27A070BA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5C59-F2D2-477E-BDCE-4493C58A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2D51A-4FBA-47C7-B06F-1736ED85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9FCF0-A03B-4BEE-BD2E-078BC51A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0C7E2-030C-40AC-B7FE-0A2299E4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1AD15-4FD1-4BF0-8D91-FEE6A03C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F2C-4BB7-43A9-A30D-37CF4B87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46D91-E5BF-4080-B7FF-ACE77204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3CE6C-91BB-4AB7-89D6-94B73E67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16C0CC-88DE-4A18-8D96-61E76F40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A6C85-25D1-474D-AC0E-3A8CE342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9699B-B34D-42B3-9C00-B53E489B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3D87A-8721-4986-9BBB-E56D415A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B6223-94E1-4F5C-9CF0-CABBAB76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C5E7C-099F-4BC9-BE9F-8FDC96E4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6AD447-B67F-47C1-A5ED-76D7E40B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0DB-A7EA-4ED4-AA6B-245F1E71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547-F7E7-45D1-9923-5E99EC6B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85F-1917-4DF4-B8BC-64905A0E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8F4-C967-4EC0-9790-8B0127BB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15D-7BDD-4EDD-8738-89495ABC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B6DC-B4F3-473E-920B-55397A7ED9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8DE8-F586-4216-88EA-ED8F89D37F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09C0-D7CB-4213-AA55-89041975D3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77A8-C792-4834-B246-1D4B08AEA1D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0112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ичностно ориентированный подход в формировании экологической культур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етей  дошкольного и младшего школьного возраст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br>
              <a:rPr sz="4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.В. Дозорец               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методист УМЛ дошкольного 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начального образования КРИПП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68360" y="1665000"/>
            <a:ext cx="828036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ловек стал человеком, когда услышал шёпот листьев и песню  кузнечика, журчание весеннего ручья и звон серебряных колокольчиков в бездонном летнем небе, шорох снежинок и завывание вьюги за окном, ласковый плеск волны и торжественную  тишину ночи,  – услышал, и, затаив дыхание, слушает сотни и тысячи  лет чудесную музыку жизни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12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. А. Сухомлин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68360" y="505440"/>
            <a:ext cx="835164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етский сад и начальная школа - открыт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циально-образовательные  учреждения, оказывающие  педагогическую помощь и поддержку семьям своих воспитанник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 также компенсирующие  проблемы в их поведении и развити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шении этого вопроса существенное  внимание уделяется экологическому образованию и воспита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971640" y="30456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общение малышей с природой и окружаемым миром, превращение социального опыта в опыт личностный, приобщаем   детей  ко всему богатству человеческой культуры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900000" y="2586960"/>
            <a:ext cx="76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школьный возраст – самый ценный этап в развит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ой культуры человека. В этот период закладываются основы личности, в том числе позитивное отношение к природе, окружающему миру. При этом накопление знаний у детей дошкольного возраста не является самоцелью. Они – необходимое условие вырабо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моционально-нравственного и действенного отношения к мир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95280" y="42516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мере взросления детей усложняется и содержание работы по принципу “от простого к сложному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ую свою работу по экологии,  педагоги стремятся найти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тегрированный подх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утем проведения опытов, экспериментов, через наблюдения детей и формирования у них собственных убеждений. При этом использу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део - и аудиозаписи, хорошо опробирован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диционные методы и приемы, а также нов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,  обогащающие знания детей о природе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9360" y="515880"/>
            <a:ext cx="8955360" cy="58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тобы повысить эффективность экологического образования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ладшем школьном возраст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спользуются  различные формы и метод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ие занятия, уроки на природ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ие экскурс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ки добр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ие конкурс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суждение и проигрывание ситу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удовой десан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лекционирование, сбор гербар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ие праздн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ие игры (дидактические, имитационные, игры –  моделирование экосистем, игры – путешестви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ие сказ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цениров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а с детской книгой на экологическую те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тературные гостины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работы с родител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курсы рисунков, викторины и т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97000" y="765360"/>
            <a:ext cx="84517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фект воспитания детей обусловлен тем, насколько экологические ценности воспринимаются взрослыми как жизненно необходимые. Заметное влияние на  воспитание ребенка оказывает уклад, уровень, качество и стиль жизни семьи.  Дети очень восприимчивы к тому, что видят вокруг себя. Они ведут себя так, как окружающие их взрослые. Родители должны осознать эт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авильное воспитание — это наша счастливая стар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95280" y="754200"/>
            <a:ext cx="7635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огда ребёнок вырастит розу, чтобы любоваться её красотой, когда единственной наградой за труд  является наслаждение красотой и создание этой красоты для счастья и радости другого человека - он не способен на зло, подлость, цинизм, бессердечность»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А. Сухомлин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3:34:55Z</dcterms:created>
  <dc:creator>janna</dc:creator>
  <dc:description/>
  <dc:language>en-US</dc:language>
  <cp:lastModifiedBy>000</cp:lastModifiedBy>
  <dcterms:modified xsi:type="dcterms:W3CDTF">2007-01-19T05:15:56Z</dcterms:modified>
  <cp:revision>19</cp:revision>
  <dc:subject/>
  <dc:title>Личностно-ориентированный подход в формировании экологической культуры детей  дошкольного и младшего школьного возраста .                                                                                             Н.В.Дозорец        методист УМЛ дошкольного и начального образования КРИППО</dc:title>
</cp:coreProperties>
</file>