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02B88-153F-4F90-81B3-261707DD4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5D39E-92B0-49D2-B069-0F644679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548CA-5343-41A3-A252-81F03FF02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BFFF6-CAFD-4490-B8C0-2C2A16E3B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C246-3A8C-4774-8F36-609EAD1B4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02E4-BB1B-48B7-95FE-9F83BA54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D996-C314-4B41-8DFC-215D2054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0E3B-A0A0-4EC6-A999-CD0F5346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566EB-2AFD-4A90-8B0C-37129328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ED21-5620-48D6-A604-1A685E7C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0015-4318-4C20-BEE2-F6DA3573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4C21D-3354-440F-97A5-FF9A4174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D36C-3DEE-4FC4-809D-18ED1C7A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8691-B516-4880-BB17-F2A2FFD9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A3AD-64E9-4537-A8DB-A686BB1A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A4A0-B834-4868-9578-83C80AFAD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80AF-5EF7-48A9-8E26-1DA515D2B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19FBF-6253-48DB-A73E-30AE27DA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2C5EA-E4AB-4F50-AE86-354F035E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57A25-11CB-476E-9670-155753FC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31183-921D-4DC2-8956-DC2D79F7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AAEB3-BA6C-4E3F-A017-60F43923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ECDD3-9744-4229-8810-95D736ED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8ADDF-CFAC-4675-BE3D-D611C4CA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C096-13CD-4F20-B768-BE3E9C46FD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1314-2D15-401F-AA1B-5545C10179D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2960" y="2357280"/>
            <a:ext cx="7859520" cy="18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574560" y="1285920"/>
            <a:ext cx="8069400" cy="53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Развитие познавательно-творческих способностей детей дошкольного и младшего школьного возраста посредством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ИЗ-педагогики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злова И. И., старший преподаватель кафедры инклюзивной педагогики и андрогоги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Ы, ПРИЕМЫ И ПРАВИЛА РТВ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стемный оператор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рфологический анализ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 фокальных объектов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зговой штурм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емы фантазирован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ханизмы решения изобретательских задач (противоречия, ИКР, ресурсы, приемы разрешения противоречий)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делирование процессов и явлений в природе и технике методом маленьких человечков (ММЧ)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ЛИНИИ ПРОВЕДЕНИЯ ЗАНЯТИЙ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звитие ассоциативно-образного и системного мышления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дходы к изобретательству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бота с информацией (картотека)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бота по созданию конкретных творческих продуктов (загадки, пословицы, сказки, рассказы, модели технических систем, изделия из природного материала и др.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сихологическая коррекция и развитие реч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МОДЕЛЬ УРОК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минка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ражнения на координацию, ритм + скороговорка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ражнения для пальчиков + скороговорка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ражнения на внимание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местить несовместимо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рка домашнего задания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ход в урок (да-нетка, фокус, загадка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вая тема (игры в сюжете)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ихотехнические игры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ражнения на развитие речи или создание творческого продукта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ведение итогов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емы фантазирования.(2-й класс, 1 полугодие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ньшение - увеличение; (1ч.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ъединение - разъединение; (1ч.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оборот; (1ч.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корение - замедление; (1ч.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мещения во времени. (1ч.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ном фантазии (Дж. Родари). (1 ч.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Игра  «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Аукцион сравнений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"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опросы для  нахождения  новых образов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авнить объект с чем-то очень больши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авнить с чем-то очень маленьким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авнить с чем-то живым или, наоборот, с чем-то искусственным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ставить, что это - не целый объект, а часть чего-то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ставить, что это - не один объект, а несколько, как-то соединенных, связанных между собой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сленно перенести этот объект в другое время: в прошлое  или в будуще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сленно поместить объект в различные окружения: если это - в пустыне, это похоже на... , а если посреди большой площади - возможно, это ……. и т.п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лагодарю за внимание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8229600" cy="545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5e5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32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Основные  задачи  ТРИЗ-обрaзoвaния :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- развитие твoрчeских спoсoбнoстeй детей; 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- активизация твoрчeскoгo мышлeния для      прoдуктивнoй пoзнaвaтeльнoй,   исслeдoвaтeльскoй и изoбрeтaтeльскoй дeятeльнoсти; 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- формирование качеств твoрчeскoй личнoсти. </a:t>
            </a:r>
            <a:br>
              <a:rPr sz="4000"/>
            </a:br>
            <a:br>
              <a:rPr sz="4000"/>
            </a:br>
            <a:br>
              <a:rPr sz="3200"/>
            </a:br>
            <a:br>
              <a:rPr sz="4000"/>
            </a:br>
            <a:br>
              <a:rPr sz="32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11280" y="76500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Твoрчeскaя рeвoлюция пo свoeму знaчeнию нe уступaeт рeвoлюциям нaучнoй, тeхничeскoй, кoсмичeскoй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рих Саулович Альтшуллер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омпоненты  познавательно-творческих способностей ( Шрагина  Л. И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ние рассматривать объекты и явления окружающего мира как системы в их взаимосвязи и развитии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ние анализировать ситуации, устанавливать причинно-следственные связи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ние обосновывать и рассуждать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ние  интегрировать и организовать информацию, делать выводы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ние обнаруживать противоречия, решать проблем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ормирующие инструменты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истемный подхо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лгоритм решения проблемных ситуац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енетический анализ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истема логических упражнений на основе системного подход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истемный операто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oрзун  Аннa Вaлeрьeвнa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Минск 2001-2004,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oгрaммнoe oбeспeчeниe  цeлeвых  курсoв с мeтoдичeскими рeкoмeндaциями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НАВЫКОВ ТВОРЧЕСКОЙ ДЕЯТЕЛЬНОСТИ ДЕТЕЙ ДОШКОЛЬНОГО ВОЗРАСТА ПОСРЕДСТВОМ ОТСМ-ТРИЗ-РТВ-ТЕХНОЛОГИЙ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99680" y="714240"/>
            <a:ext cx="835812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ла Александровна Нестеренко, г.Петрозаводск, 1996-199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ГРАММА  ПО КУРСУ РАЗВИТИЯ ТВОРЧЕСКОГО ВООБРАЖЕНИЯ (РТВ) НА БАЗЕ ТЕОРИИ РЕШЕНИЯ ИЗОБРЕТАТЕЛЬСКИХ ЗАДАЧ (ТРИЗ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начальных классов базовой школ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Прямоугольник 3"/>
          <p:cNvSpPr/>
          <p:nvPr/>
        </p:nvSpPr>
        <p:spPr>
          <a:xfrm>
            <a:off x="357120" y="428760"/>
            <a:ext cx="842976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бин Михaил  Сeмeнoвич, Рубина  Нaтaлья Виктoрoвна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НДАРТЫ НА ПРИМЕНЕНИЕ МЕТОДОВ РТВ-ТРИЗ-ТРТ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ОБУЧЕНИЯ ДОШКОЛЬНИКОВ, ШКОЛЬНИКОВ, СТУДЕНТОВ И ДОПОЛНИТЕЛЬНОГО ОБРАЗОВАНИЯ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бина Наталья Викторовна, Петрозаводск, 1996-199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ГРАММА ПО КУРСУ РАЗВИТИЯ ТВОРЧЕСКОГО ВООБРАЖЕНИЯ (РТВ)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начальных классов средней школы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на основе теории решения изобретательских задач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08:29:54Z</dcterms:created>
  <dc:creator>User</dc:creator>
  <dc:description/>
  <dc:language>en-US</dc:language>
  <cp:lastModifiedBy>Ирина</cp:lastModifiedBy>
  <dcterms:modified xsi:type="dcterms:W3CDTF">2011-09-25T13:43:10Z</dcterms:modified>
  <cp:revision>10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