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jpeg" ContentType="image/jpeg"/>
  <Override PartName="/ppt/media/image23.png" ContentType="image/png"/>
  <Override PartName="/ppt/media/image36.png" ContentType="image/png"/>
  <Override PartName="/ppt/media/image39.png" ContentType="image/png"/>
  <Override PartName="/ppt/media/image9.png" ContentType="image/png"/>
  <Override PartName="/ppt/media/image8.wmf" ContentType="image/x-wmf"/>
  <Override PartName="/ppt/media/image61.jpeg" ContentType="image/jpeg"/>
  <Override PartName="/ppt/media/image27.png" ContentType="image/png"/>
  <Override PartName="/ppt/media/image56.jpeg" ContentType="image/jpeg"/>
  <Override PartName="/ppt/media/image33.png" ContentType="image/png"/>
  <Override PartName="/ppt/media/image5.gif" ContentType="image/gif"/>
  <Override PartName="/ppt/media/image3.png" ContentType="image/png"/>
  <Override PartName="/ppt/media/image15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6.png" ContentType="image/png"/>
  <Override PartName="/ppt/media/image60.jpeg" ContentType="image/jpeg"/>
  <Override PartName="/ppt/media/image30.png" ContentType="image/png"/>
  <Override PartName="/ppt/media/image25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7.png" ContentType="image/png"/>
  <Override PartName="/ppt/media/image14.png" ContentType="image/png"/>
  <Override PartName="/ppt/media/image54.wmf" ContentType="image/x-wmf"/>
  <Override PartName="/ppt/media/image34.png" ContentType="image/png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43.jpeg" ContentType="image/jpeg"/>
  <Override PartName="/ppt/media/image40.jpeg" ContentType="image/jpe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png" ContentType="image/png"/>
  <Override PartName="/ppt/media/image51.png" ContentType="image/png"/>
  <Override PartName="/ppt/media/image5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092-BAAB-4C2B-BFEA-789BEADFA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F4A7-9054-4916-9193-A9F2DA366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DA16-2650-455F-BE02-0913D7AE3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B0F1-87E6-4C63-99CA-29CCD5691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- ка на часы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и здесь не для красы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указали для на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нду, минуту и ча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нду - тоненька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уту - длинненька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оротенькая - час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бывает всяк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93A-B8C6-428A-91FC-FB2FA499E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0F5-E2B8-4763-B9EB-55BBBC4D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AC-3AD2-452A-B342-617BEFC0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A25-BA13-474A-B3DE-B517D912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39E-7AE5-4814-AD76-BBEE845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EE4-FCA9-4C23-863E-AD3850D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FBC-48BB-4E03-AE95-2290081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3B4-2548-46E3-9ACF-2816A36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58D-DF57-4A2E-B216-F9D138F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631-AC4A-4476-A6D9-72F84FD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9A5-D512-460C-8500-A836642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6B2-FFB4-4AD5-9B8C-F15FA1D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EE0-A1B2-4CA3-B139-1CC5BA1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b1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9184-A1BD-4D73-A13C-F71B6D52C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76;&#1072;.wav" TargetMode="External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4;&#1086;&#1088;&#1082;&#1086;&#1074;&#1100;" TargetMode="External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&#1084;&#1086;&#1088;&#1082;&#1086;&#1074;&#1100;" TargetMode="External"/><Relationship Id="rId4" Type="http://schemas.openxmlformats.org/officeDocument/2006/relationships/image" Target="../media/image8.wmf"/><Relationship Id="rId5" Type="http://schemas.openxmlformats.org/officeDocument/2006/relationships/hyperlink" Target="file:///tmp/home/.config/libreoffice/4/user/gallery/&#1084;&#1086;&#1088;&#1082;&#1086;&#1074;&#1100;" TargetMode="External"/><Relationship Id="rId6" Type="http://schemas.openxmlformats.org/officeDocument/2006/relationships/image" Target="../media/image8.wmf"/><Relationship Id="rId7" Type="http://schemas.openxmlformats.org/officeDocument/2006/relationships/hyperlink" Target="file:///tmp/home/.config/libreoffice/4/user/gallery/&#1084;&#1086;&#1088;&#1082;&#1086;&#1074;&#1100;" TargetMode="External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&#1084;&#1086;&#1088;&#1082;&#1086;&#1074;&#1100;" TargetMode="External"/><Relationship Id="rId10" Type="http://schemas.openxmlformats.org/officeDocument/2006/relationships/image" Target="../media/image8.wmf"/><Relationship Id="rId11" Type="http://schemas.openxmlformats.org/officeDocument/2006/relationships/hyperlink" Target="file:///tmp/home/.config/libreoffice/4/user/gallery/&#1084;&#1086;&#1088;&#1082;&#1086;&#1074;&#1100;" TargetMode="External"/><Relationship Id="rId12" Type="http://schemas.openxmlformats.org/officeDocument/2006/relationships/image" Target="../media/image8.wmf"/><Relationship Id="rId13" Type="http://schemas.openxmlformats.org/officeDocument/2006/relationships/hyperlink" Target="file:///tmp/home/.config/libreoffice/4/user/gallery/&#1084;&#1086;&#1088;&#1082;&#1086;&#1074;&#1100;" TargetMode="External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2" Type="http://schemas.openxmlformats.org/officeDocument/2006/relationships/hyperlink" Target="file:///tmp/home/.config/libreoffice/4/user/gallery/&#1087;&#1088;&#1072;&#1074;&#1080;&#1083;&#1100;&#1085;&#1086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8;&#1072;&#1074;&#1080;&#1083;&#1100;&#1085;&#1086;" TargetMode="External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8;&#1072;&#1074;&#1080;&#1083;&#1100;&#1085;&#1086;" TargetMode="External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4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hyperlink" Target="file:///tmp/home/.config/libreoffice/4/user/gallery/&#1085;&#1077;&#1090;.wav" TargetMode="External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6.png"/><Relationship Id="rId10" Type="http://schemas.openxmlformats.org/officeDocument/2006/relationships/hyperlink" Target="file:///tmp/home/.config/libreoffice/4/user/gallery/&#1076;&#1072;.wav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12640" y="1928880"/>
            <a:ext cx="816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менение ИКТ для  формир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навательной компетен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ладших школь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401560" y="5411880"/>
            <a:ext cx="560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лушкова Татьяна Олег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кругленный прямоугольник 18"/>
          <p:cNvSpPr/>
          <p:nvPr/>
        </p:nvSpPr>
        <p:spPr>
          <a:xfrm>
            <a:off x="571680" y="428760"/>
            <a:ext cx="8143560" cy="48574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142" name="Управляющая кнопка: настраиваемая 19">
            <a:hlinkClick r:id="rId5"/>
          </p:cNvPr>
          <p:cNvSpPr/>
          <p:nvPr/>
        </p:nvSpPr>
        <p:spPr>
          <a:xfrm>
            <a:off x="17146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Управляющая кнопка: настраиваемая 20">
            <a:hlinkClick r:id="rId6"/>
          </p:cNvPr>
          <p:cNvSpPr/>
          <p:nvPr/>
        </p:nvSpPr>
        <p:spPr>
          <a:xfrm>
            <a:off x="29289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Управляющая кнопка: настраиваемая 21">
            <a:hlinkClick r:id="rId7"/>
          </p:cNvPr>
          <p:cNvSpPr/>
          <p:nvPr/>
        </p:nvSpPr>
        <p:spPr>
          <a:xfrm>
            <a:off x="4143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Управляющая кнопка: настраиваемая 22">
            <a:hlinkClick r:id="" action="ppaction://hlinkshowjump?jump=nextslide"/>
            <a:hlinkClick r:id="rId8"/>
          </p:cNvPr>
          <p:cNvSpPr/>
          <p:nvPr/>
        </p:nvSpPr>
        <p:spPr>
          <a:xfrm>
            <a:off x="53578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настраиваемая 23">
            <a:hlinkClick r:id="rId9"/>
          </p:cNvPr>
          <p:cNvSpPr/>
          <p:nvPr/>
        </p:nvSpPr>
        <p:spPr>
          <a:xfrm>
            <a:off x="6572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Управляющая кнопка: настраиваемая 15"/>
          <p:cNvSpPr/>
          <p:nvPr/>
        </p:nvSpPr>
        <p:spPr>
          <a:xfrm>
            <a:off x="4143240" y="39290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:\Documents and Settings\Admin\Рабочий стол\Новая папка (2)\Безимени-2.gif"/>
          <p:cNvPicPr/>
          <p:nvPr/>
        </p:nvPicPr>
        <p:blipFill>
          <a:blip r:embed="rId10"/>
          <a:stretch/>
        </p:blipFill>
        <p:spPr>
          <a:xfrm>
            <a:off x="1143000" y="185724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C:\Documents and Settings\Admin\Рабочий стол\Новая папка (2)\Безимени-2.gif"/>
          <p:cNvPicPr/>
          <p:nvPr/>
        </p:nvPicPr>
        <p:blipFill>
          <a:blip r:embed="rId11"/>
          <a:stretch/>
        </p:blipFill>
        <p:spPr>
          <a:xfrm>
            <a:off x="2928960" y="92880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C:\Documents and Settings\Admin\Рабочий стол\Новая папка (2)\Безимени-2.gif"/>
          <p:cNvPicPr/>
          <p:nvPr/>
        </p:nvPicPr>
        <p:blipFill>
          <a:blip r:embed="rId12"/>
          <a:stretch/>
        </p:blipFill>
        <p:spPr>
          <a:xfrm>
            <a:off x="4786200" y="92880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C:\Documents and Settings\Admin\Рабочий стол\Новая папка (2)\Безимени-2.gif"/>
          <p:cNvPicPr/>
          <p:nvPr/>
        </p:nvPicPr>
        <p:blipFill>
          <a:blip r:embed="rId13"/>
          <a:stretch/>
        </p:blipFill>
        <p:spPr>
          <a:xfrm>
            <a:off x="6715080" y="1928880"/>
            <a:ext cx="1660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000803_1060_2270_vnv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52640"/>
            <a:ext cx="3816360" cy="1263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60_2270_vnv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2133720"/>
            <a:ext cx="3816360" cy="1263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000803_1060_2270_vnv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76280"/>
            <a:ext cx="3816360" cy="1263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000803_1060_2270_vnv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27640" y="1125360"/>
            <a:ext cx="3816360" cy="1263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00803_1060_2270_vnv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16360" y="2133720"/>
            <a:ext cx="3816360" cy="126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000803_1060_2270_vnvv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189000"/>
            <a:ext cx="3816360" cy="1263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000803_1060_2270_vnvv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27640" y="3141720"/>
            <a:ext cx="3816360" cy="12636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3"/>
          <p:cNvSpPr txBox="1"/>
          <p:nvPr/>
        </p:nvSpPr>
        <p:spPr>
          <a:xfrm>
            <a:off x="755640" y="5157720"/>
            <a:ext cx="5763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4"/>
          <p:cNvSpPr txBox="1"/>
          <p:nvPr/>
        </p:nvSpPr>
        <p:spPr>
          <a:xfrm>
            <a:off x="2700360" y="5157720"/>
            <a:ext cx="5763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15"/>
          <p:cNvSpPr txBox="1"/>
          <p:nvPr/>
        </p:nvSpPr>
        <p:spPr>
          <a:xfrm>
            <a:off x="4932360" y="5229360"/>
            <a:ext cx="57636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547640" y="5734080"/>
            <a:ext cx="792360" cy="1443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17"/>
          <p:cNvGrpSpPr/>
          <p:nvPr/>
        </p:nvGrpSpPr>
        <p:grpSpPr>
          <a:xfrm>
            <a:off x="3564000" y="5589720"/>
            <a:ext cx="792000" cy="432720"/>
            <a:chOff x="3564000" y="5589720"/>
            <a:chExt cx="792000" cy="432720"/>
          </a:xfrm>
        </p:grpSpPr>
        <p:sp>
          <p:nvSpPr>
            <p:cNvPr id="164" name="Rectangle 18"/>
            <p:cNvSpPr/>
            <p:nvPr/>
          </p:nvSpPr>
          <p:spPr>
            <a:xfrm>
              <a:off x="3564000" y="5589720"/>
              <a:ext cx="792000" cy="1440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3564000" y="5878080"/>
              <a:ext cx="792000" cy="144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7772400" y="-2771640"/>
            <a:ext cx="463680" cy="10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3492360" y="105264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928800" y="1428840"/>
            <a:ext cx="142848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785880" y="4929120"/>
            <a:ext cx="143820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6480">
                <a:solidFill>
                  <a:srgbClr val="ff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6429240" y="428760"/>
            <a:ext cx="143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5715000" y="5214960"/>
            <a:ext cx="16430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4214880" y="3000240"/>
            <a:ext cx="8604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2643120" y="3716280"/>
            <a:ext cx="128124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6572160" y="2143080"/>
            <a:ext cx="1198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8360" y="40464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очитай слог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23"/>
          <p:cNvSpPr/>
          <p:nvPr/>
        </p:nvSpPr>
        <p:spPr>
          <a:xfrm flipV="1">
            <a:off x="2571840" y="1988640"/>
            <a:ext cx="920520" cy="654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2500200" y="2714760"/>
            <a:ext cx="164304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23"/>
          <p:cNvSpPr/>
          <p:nvPr/>
        </p:nvSpPr>
        <p:spPr>
          <a:xfrm>
            <a:off x="2500200" y="2714760"/>
            <a:ext cx="642960" cy="1000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2571840" y="2643120"/>
            <a:ext cx="407196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1357200" y="2857680"/>
            <a:ext cx="2857680" cy="571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5072040" y="1714680"/>
            <a:ext cx="1714680" cy="1785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23"/>
          <p:cNvSpPr/>
          <p:nvPr/>
        </p:nvSpPr>
        <p:spPr>
          <a:xfrm flipH="1">
            <a:off x="6143400" y="3286080"/>
            <a:ext cx="500040" cy="1857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>
            <a:hlinkClick r:id="" action="ppaction://hlinkshowjump?jump=nextslide"/>
          </p:cNvPr>
          <p:cNvSpPr/>
          <p:nvPr/>
        </p:nvSpPr>
        <p:spPr>
          <a:xfrm>
            <a:off x="4648320" y="4800600"/>
            <a:ext cx="1218960" cy="12193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Трапеция 12">
            <a:hlinkClick r:id="rId1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13">
            <a:hlinkClick r:id="rId2" action="ppaction://hlinksldjump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14">
            <a:hlinkClick r:id="rId3" action="ppaction://hlinksldjump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араллелограмм 15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араллелограмм 16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17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18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19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Трапеция 20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3365280" y="3276720"/>
            <a:ext cx="24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ТЕН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3364920" y="327672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ВЕР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Трапеция 24">
            <a:hlinkClick r:id="rId1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5">
            <a:hlinkClick r:id="" action="ppaction://hlinkshowjump?jump=nextslide"/>
            <a:hlinkClick r:id="rId2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7">
            <a:hlinkClick r:id="rId3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араллелограмм 28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араллелограмм 29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0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1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2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Трапеция 33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6"/>
          <p:cNvSpPr/>
          <p:nvPr/>
        </p:nvSpPr>
        <p:spPr>
          <a:xfrm>
            <a:off x="3367800" y="3276720"/>
            <a:ext cx="276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Трапеция 27">
            <a:hlinkClick r:id="" action="ppaction://hlinkshowjump?jump=nextslide"/>
            <a:hlinkClick r:id="rId1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араллелограмм 30">
            <a:hlinkClick r:id="rId2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араллелограмм 31">
            <a:hlinkClick r:id="rId3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32">
            <a:hlinkClick r:id="rId4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33">
            <a:hlinkClick r:id="rId5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4">
            <a:hlinkClick r:id="rId6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Трапеция 35">
            <a:hlinkClick r:id="rId7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3358080" y="3276720"/>
            <a:ext cx="22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РУБ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араллелограмм 31">
            <a:hlinkClick r:id="" action="ppaction://hlinkshowjump?jump=nextslide"/>
            <a:hlinkClick r:id="rId1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араллелограмм 32">
            <a:hlinkClick r:id="rId2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3">
            <a:hlinkClick r:id="rId3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4">
            <a:hlinkClick r:id="rId4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5">
            <a:hlinkClick r:id="rId5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Трапеция 36">
            <a:hlinkClick r:id="rId6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араллелограмм 16"/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17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Трапеция 20"/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араллелограмм 25"/>
          <p:cNvSpPr/>
          <p:nvPr/>
        </p:nvSpPr>
        <p:spPr>
          <a:xfrm>
            <a:off x="6324480" y="457200"/>
            <a:ext cx="38124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6"/>
          <p:cNvSpPr/>
          <p:nvPr/>
        </p:nvSpPr>
        <p:spPr>
          <a:xfrm>
            <a:off x="1142280" y="2971800"/>
            <a:ext cx="627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6" descr="Труба 2.gif"/>
          <p:cNvPicPr/>
          <p:nvPr/>
        </p:nvPicPr>
        <p:blipFill>
          <a:blip r:embed="rId1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sp>
        <p:nvSpPr>
          <p:cNvPr id="264" name="Прямоугольник 5"/>
          <p:cNvSpPr/>
          <p:nvPr/>
        </p:nvSpPr>
        <p:spPr>
          <a:xfrm>
            <a:off x="4714920" y="0"/>
            <a:ext cx="4429080" cy="685800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142920" y="2142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Arial"/>
              </a:rPr>
              <a:t>Вставь пропущенные букв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71680" y="1000080"/>
            <a:ext cx="35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1" lang="ru-RU" sz="4800" spc="-1" strike="noStrike">
                <a:solidFill>
                  <a:srgbClr val="f4f9d7"/>
                </a:solidFill>
                <a:latin typeface="Calibri"/>
                <a:ea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рё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642960" y="1785960"/>
            <a:ext cx="35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гор</a:t>
            </a:r>
            <a:r>
              <a:rPr b="1" lang="ru-RU" sz="4800" spc="-1" strike="noStrike">
                <a:solidFill>
                  <a:srgbClr val="f4f9d7"/>
                </a:solidFill>
                <a:latin typeface="Calibri"/>
                <a:ea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642960" y="257184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ru-RU" sz="4800" spc="-1" strike="noStrike">
                <a:solidFill>
                  <a:srgbClr val="f4f9d7"/>
                </a:solidFill>
                <a:latin typeface="Calibri"/>
                <a:ea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ро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642960" y="342900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з</a:t>
            </a:r>
            <a:r>
              <a:rPr b="1" lang="ru-RU" sz="4800" spc="-1" strike="noStrike">
                <a:solidFill>
                  <a:srgbClr val="f4f9d7"/>
                </a:solidFill>
                <a:latin typeface="Calibri"/>
                <a:ea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в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Рисунок 27" descr="Труба 2.gif"/>
          <p:cNvPicPr/>
          <p:nvPr/>
        </p:nvPicPr>
        <p:blipFill>
          <a:blip r:embed="rId2"/>
          <a:stretch/>
        </p:blipFill>
        <p:spPr>
          <a:xfrm>
            <a:off x="2428920" y="4786200"/>
            <a:ext cx="3486240" cy="1619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2.77778E-006 0.58796 E">
                                      <p:cBhvr>
                                        <p:cTn id="33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6088 L 0.54931 0.6088 E">
                                      <p:cBhvr>
                                        <p:cTn id="33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31 0.6088 L 0.54931 -0.03171 E">
                                      <p:cBhvr>
                                        <p:cTn id="340" dur="3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1.66667E-006 0.4618 E">
                                      <p:cBhvr>
                                        <p:cTn id="34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49422 L 0.53369 0.49422 E">
                                      <p:cBhvr>
                                        <p:cTn id="347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15 0.49422 L 0.5415 0.0007 E">
                                      <p:cBhvr>
                                        <p:cTn id="350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03704E-006 L 2.77778E-007 0.36759 E">
                                      <p:cBhvr>
                                        <p:cTn id="35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37963 L 0.49827 0.37963 E">
                                      <p:cBhvr>
                                        <p:cTn id="357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768 0.37963 L 0.53768 0.02268 E">
                                      <p:cBhvr>
                                        <p:cTn id="360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4 0.25463 L 0.48646 0.25463 E">
                                      <p:cBhvr>
                                        <p:cTn id="364" dur="3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368 0.25463 L 0.53368 0.04467 E">
                                      <p:cBhvr>
                                        <p:cTn id="367" dur="3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ext Box 2" descr=""/>
          <p:cNvPicPr/>
          <p:nvPr/>
        </p:nvPicPr>
        <p:blipFill>
          <a:blip r:embed="rId1"/>
          <a:stretch/>
        </p:blipFill>
        <p:spPr>
          <a:xfrm>
            <a:off x="1170000" y="109440"/>
            <a:ext cx="6602400" cy="162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9" descr="F:\Мои рисунки\Детские\пятиугольник.gif"/>
          <p:cNvPicPr/>
          <p:nvPr/>
        </p:nvPicPr>
        <p:blipFill>
          <a:blip r:embed="rId2"/>
          <a:stretch/>
        </p:blipFill>
        <p:spPr>
          <a:xfrm>
            <a:off x="380880" y="281952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1" descr="F:\Мои рисунки\Детские\овал.gif"/>
          <p:cNvPicPr/>
          <p:nvPr/>
        </p:nvPicPr>
        <p:blipFill>
          <a:blip r:embed="rId3"/>
          <a:stretch/>
        </p:blipFill>
        <p:spPr>
          <a:xfrm>
            <a:off x="533520" y="1371600"/>
            <a:ext cx="923760" cy="1362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6" descr="F:\Мои рисунки\Детские\огурчик.gif"/>
          <p:cNvPicPr/>
          <p:nvPr/>
        </p:nvPicPr>
        <p:blipFill>
          <a:blip r:embed="rId4"/>
          <a:stretch/>
        </p:blipFill>
        <p:spPr>
          <a:xfrm>
            <a:off x="7391520" y="3505320"/>
            <a:ext cx="1504800" cy="1542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F:\Мои рисунки\Детские\груша.gif"/>
          <p:cNvPicPr/>
          <p:nvPr/>
        </p:nvPicPr>
        <p:blipFill>
          <a:blip r:embed="rId5"/>
          <a:stretch/>
        </p:blipFill>
        <p:spPr>
          <a:xfrm>
            <a:off x="7620120" y="1066680"/>
            <a:ext cx="128412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F:\Мои рисунки\Детские\банан.gif"/>
          <p:cNvPicPr/>
          <p:nvPr/>
        </p:nvPicPr>
        <p:blipFill>
          <a:blip r:embed="rId6"/>
          <a:stretch/>
        </p:blipFill>
        <p:spPr>
          <a:xfrm>
            <a:off x="4267080" y="2971800"/>
            <a:ext cx="1362240" cy="1495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F:\Мои рисунки\Детские\юрта.gif"/>
          <p:cNvPicPr/>
          <p:nvPr/>
        </p:nvPicPr>
        <p:blipFill>
          <a:blip r:embed="rId7"/>
          <a:stretch/>
        </p:blipFill>
        <p:spPr>
          <a:xfrm>
            <a:off x="5334120" y="1447920"/>
            <a:ext cx="1904760" cy="1447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F:\Мои рисунки\Детские\свин1.gif"/>
          <p:cNvPicPr/>
          <p:nvPr/>
        </p:nvPicPr>
        <p:blipFill>
          <a:blip r:embed="rId8"/>
          <a:stretch/>
        </p:blipFill>
        <p:spPr>
          <a:xfrm>
            <a:off x="5334120" y="4419720"/>
            <a:ext cx="1428480" cy="904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F:\Мои рисунки\Детские\круг.gif"/>
          <p:cNvPicPr/>
          <p:nvPr/>
        </p:nvPicPr>
        <p:blipFill>
          <a:blip r:embed="rId9"/>
          <a:stretch/>
        </p:blipFill>
        <p:spPr>
          <a:xfrm>
            <a:off x="457200" y="4191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F:\Мои рисунки\Детские\лягшонок.gif"/>
          <p:cNvPicPr/>
          <p:nvPr/>
        </p:nvPicPr>
        <p:blipFill>
          <a:blip r:embed="rId10"/>
          <a:stretch/>
        </p:blipFill>
        <p:spPr>
          <a:xfrm>
            <a:off x="6858000" y="4800600"/>
            <a:ext cx="1676520" cy="183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F:\Мои рисунки\животные весел\дильфин.gif"/>
          <p:cNvPicPr/>
          <p:nvPr/>
        </p:nvPicPr>
        <p:blipFill>
          <a:blip r:embed="rId11"/>
          <a:stretch/>
        </p:blipFill>
        <p:spPr>
          <a:xfrm rot="17380200">
            <a:off x="2901960" y="3665160"/>
            <a:ext cx="1189080" cy="16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F:\Мои рисунки\Детские\крокодил1.gif"/>
          <p:cNvPicPr/>
          <p:nvPr/>
        </p:nvPicPr>
        <p:blipFill>
          <a:blip r:embed="rId12"/>
          <a:stretch/>
        </p:blipFill>
        <p:spPr>
          <a:xfrm>
            <a:off x="3048120" y="5562720"/>
            <a:ext cx="1904760" cy="100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" descr="F:\Мои рисунки\Детские\машина.gif"/>
          <p:cNvPicPr/>
          <p:nvPr/>
        </p:nvPicPr>
        <p:blipFill>
          <a:blip r:embed="rId13"/>
          <a:stretch/>
        </p:blipFill>
        <p:spPr>
          <a:xfrm>
            <a:off x="2209680" y="1905120"/>
            <a:ext cx="2133720" cy="92376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ая соединительная линия 15"/>
          <p:cNvSpPr/>
          <p:nvPr/>
        </p:nvSpPr>
        <p:spPr>
          <a:xfrm flipH="1">
            <a:off x="1828800" y="1371600"/>
            <a:ext cx="1440" cy="5486400"/>
          </a:xfrm>
          <a:prstGeom prst="line">
            <a:avLst/>
          </a:prstGeom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F:\Мои рисунки\Детские\square.gif"/>
          <p:cNvPicPr/>
          <p:nvPr/>
        </p:nvPicPr>
        <p:blipFill>
          <a:blip r:embed="rId14"/>
          <a:stretch/>
        </p:blipFill>
        <p:spPr>
          <a:xfrm>
            <a:off x="457200" y="5562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7"/>
          <p:cNvSpPr/>
          <p:nvPr/>
        </p:nvSpPr>
        <p:spPr>
          <a:xfrm>
            <a:off x="0" y="1066680"/>
            <a:ext cx="1828800" cy="30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жми на фигур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05640" y="285840"/>
            <a:ext cx="40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3"/>
          <p:cNvCxnSpPr/>
          <p:nvPr/>
        </p:nvCxnSpPr>
        <p:spPr>
          <a:xfrm flipH="1">
            <a:off x="1499400" y="1141920"/>
            <a:ext cx="2072520" cy="8578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5"/>
          <p:cNvCxnSpPr/>
          <p:nvPr/>
        </p:nvCxnSpPr>
        <p:spPr>
          <a:xfrm>
            <a:off x="3785040" y="1285920"/>
            <a:ext cx="500760" cy="3572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7"/>
          <p:cNvCxnSpPr/>
          <p:nvPr/>
        </p:nvCxnSpPr>
        <p:spPr>
          <a:xfrm>
            <a:off x="4000680" y="1213920"/>
            <a:ext cx="3072240" cy="1001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9"/>
          <p:cNvCxnSpPr/>
          <p:nvPr/>
        </p:nvCxnSpPr>
        <p:spPr>
          <a:xfrm>
            <a:off x="3927960" y="1285560"/>
            <a:ext cx="1715400" cy="2215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1"/>
          <p:cNvCxnSpPr/>
          <p:nvPr/>
        </p:nvCxnSpPr>
        <p:spPr>
          <a:xfrm flipH="1">
            <a:off x="2428200" y="1142640"/>
            <a:ext cx="1215000" cy="2429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2"/>
          <p:cNvSpPr/>
          <p:nvPr/>
        </p:nvSpPr>
        <p:spPr>
          <a:xfrm>
            <a:off x="440280" y="2214720"/>
            <a:ext cx="22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ГР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797400" y="3643200"/>
            <a:ext cx="26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6491160" y="2214720"/>
            <a:ext cx="16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НИ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4924800" y="3643200"/>
            <a:ext cx="33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ЬКУЛЯ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731400" y="5000760"/>
            <a:ext cx="48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ДЕОМАГНИТОФ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4"/>
          <p:cNvCxnSpPr/>
          <p:nvPr/>
        </p:nvCxnSpPr>
        <p:spPr>
          <a:xfrm flipH="1">
            <a:off x="2428560" y="1214280"/>
            <a:ext cx="1286640" cy="37872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36"/>
          <p:cNvSpPr/>
          <p:nvPr/>
        </p:nvSpPr>
        <p:spPr>
          <a:xfrm>
            <a:off x="438120" y="5072040"/>
            <a:ext cx="241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Пользователь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8" name="5-конечная звезда 2"/>
          <p:cNvGrpSpPr/>
          <p:nvPr/>
        </p:nvGrpSpPr>
        <p:grpSpPr>
          <a:xfrm>
            <a:off x="7967520" y="6066000"/>
            <a:ext cx="914400" cy="731520"/>
            <a:chOff x="7967520" y="6066000"/>
            <a:chExt cx="914400" cy="731520"/>
          </a:xfrm>
        </p:grpSpPr>
        <p:pic>
          <p:nvPicPr>
            <p:cNvPr id="289" name="5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796752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27244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5-конечная звезда 3"/>
          <p:cNvGrpSpPr/>
          <p:nvPr/>
        </p:nvGrpSpPr>
        <p:grpSpPr>
          <a:xfrm>
            <a:off x="7102440" y="6066000"/>
            <a:ext cx="914400" cy="731520"/>
            <a:chOff x="7102440" y="6066000"/>
            <a:chExt cx="914400" cy="731520"/>
          </a:xfrm>
        </p:grpSpPr>
        <p:pic>
          <p:nvPicPr>
            <p:cNvPr id="292" name="5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710244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40880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5-конечная звезда 4"/>
          <p:cNvGrpSpPr/>
          <p:nvPr/>
        </p:nvGrpSpPr>
        <p:grpSpPr>
          <a:xfrm>
            <a:off x="6235560" y="6066000"/>
            <a:ext cx="914400" cy="731520"/>
            <a:chOff x="6235560" y="6066000"/>
            <a:chExt cx="914400" cy="731520"/>
          </a:xfrm>
        </p:grpSpPr>
        <p:pic>
          <p:nvPicPr>
            <p:cNvPr id="295" name="5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623556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545160" y="6330960"/>
              <a:ext cx="301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5-конечная звезда 5"/>
          <p:cNvGrpSpPr/>
          <p:nvPr/>
        </p:nvGrpSpPr>
        <p:grpSpPr>
          <a:xfrm>
            <a:off x="5376960" y="6066000"/>
            <a:ext cx="914400" cy="731520"/>
            <a:chOff x="5376960" y="6066000"/>
            <a:chExt cx="914400" cy="731520"/>
          </a:xfrm>
        </p:grpSpPr>
        <p:pic>
          <p:nvPicPr>
            <p:cNvPr id="298" name="5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537696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68008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5-конечная звезда 6"/>
          <p:cNvGrpSpPr/>
          <p:nvPr/>
        </p:nvGrpSpPr>
        <p:grpSpPr>
          <a:xfrm>
            <a:off x="4511520" y="6066000"/>
            <a:ext cx="914400" cy="731520"/>
            <a:chOff x="4511520" y="6066000"/>
            <a:chExt cx="914400" cy="731520"/>
          </a:xfrm>
        </p:grpSpPr>
        <p:pic>
          <p:nvPicPr>
            <p:cNvPr id="301" name="5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451152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81644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5-конечная звезда 7"/>
          <p:cNvGrpSpPr/>
          <p:nvPr/>
        </p:nvGrpSpPr>
        <p:grpSpPr>
          <a:xfrm>
            <a:off x="3645000" y="6066000"/>
            <a:ext cx="914400" cy="731520"/>
            <a:chOff x="3645000" y="6066000"/>
            <a:chExt cx="914400" cy="731520"/>
          </a:xfrm>
        </p:grpSpPr>
        <p:pic>
          <p:nvPicPr>
            <p:cNvPr id="304" name="5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364500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952800" y="6330960"/>
              <a:ext cx="301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5-конечная звезда 8"/>
          <p:cNvGrpSpPr/>
          <p:nvPr/>
        </p:nvGrpSpPr>
        <p:grpSpPr>
          <a:xfrm>
            <a:off x="2786040" y="6066000"/>
            <a:ext cx="907920" cy="731520"/>
            <a:chOff x="2786040" y="6066000"/>
            <a:chExt cx="907920" cy="731520"/>
          </a:xfrm>
        </p:grpSpPr>
        <p:pic>
          <p:nvPicPr>
            <p:cNvPr id="307" name="5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2786040" y="6066000"/>
              <a:ext cx="9079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089160" y="6330960"/>
              <a:ext cx="301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5-конечная звезда 9"/>
          <p:cNvGrpSpPr/>
          <p:nvPr/>
        </p:nvGrpSpPr>
        <p:grpSpPr>
          <a:xfrm>
            <a:off x="1920960" y="6066000"/>
            <a:ext cx="914400" cy="731520"/>
            <a:chOff x="1920960" y="6066000"/>
            <a:chExt cx="914400" cy="731520"/>
          </a:xfrm>
        </p:grpSpPr>
        <p:pic>
          <p:nvPicPr>
            <p:cNvPr id="310" name="5-конечная звезда 9" descr=""/>
            <p:cNvPicPr/>
            <p:nvPr/>
          </p:nvPicPr>
          <p:blipFill>
            <a:blip r:embed="rId9"/>
            <a:stretch/>
          </p:blipFill>
          <p:spPr>
            <a:xfrm>
              <a:off x="192096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22408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5-конечная звезда 10"/>
          <p:cNvGrpSpPr/>
          <p:nvPr/>
        </p:nvGrpSpPr>
        <p:grpSpPr>
          <a:xfrm>
            <a:off x="1054080" y="6066000"/>
            <a:ext cx="914400" cy="731520"/>
            <a:chOff x="1054080" y="6066000"/>
            <a:chExt cx="914400" cy="731520"/>
          </a:xfrm>
        </p:grpSpPr>
        <p:pic>
          <p:nvPicPr>
            <p:cNvPr id="313" name="5-конечная звезда 10" descr=""/>
            <p:cNvPicPr/>
            <p:nvPr/>
          </p:nvPicPr>
          <p:blipFill>
            <a:blip r:embed="rId10"/>
            <a:stretch/>
          </p:blipFill>
          <p:spPr>
            <a:xfrm>
              <a:off x="105408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360440" y="6330960"/>
              <a:ext cx="3031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5-конечная звезда 11"/>
          <p:cNvGrpSpPr/>
          <p:nvPr/>
        </p:nvGrpSpPr>
        <p:grpSpPr>
          <a:xfrm>
            <a:off x="189000" y="6066000"/>
            <a:ext cx="914400" cy="731520"/>
            <a:chOff x="189000" y="6066000"/>
            <a:chExt cx="914400" cy="731520"/>
          </a:xfrm>
        </p:grpSpPr>
        <p:pic>
          <p:nvPicPr>
            <p:cNvPr id="316" name="5-конечная звезда 11" descr=""/>
            <p:cNvPicPr/>
            <p:nvPr/>
          </p:nvPicPr>
          <p:blipFill>
            <a:blip r:embed="rId11"/>
            <a:stretch/>
          </p:blipFill>
          <p:spPr>
            <a:xfrm>
              <a:off x="189000" y="6066000"/>
              <a:ext cx="91440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96800" y="6330960"/>
              <a:ext cx="3016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Box 12"/>
          <p:cNvSpPr/>
          <p:nvPr/>
        </p:nvSpPr>
        <p:spPr>
          <a:xfrm>
            <a:off x="984600" y="40464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TextBox 13"/>
          <p:cNvGrpSpPr/>
          <p:nvPr/>
        </p:nvGrpSpPr>
        <p:grpSpPr>
          <a:xfrm>
            <a:off x="4651200" y="5254560"/>
            <a:ext cx="731880" cy="615960"/>
            <a:chOff x="4651200" y="5254560"/>
            <a:chExt cx="731880" cy="615960"/>
          </a:xfrm>
        </p:grpSpPr>
        <p:pic>
          <p:nvPicPr>
            <p:cNvPr id="320" name="TextBox 13" descr=""/>
            <p:cNvPicPr/>
            <p:nvPr/>
          </p:nvPicPr>
          <p:blipFill>
            <a:blip r:embed="rId12"/>
            <a:stretch/>
          </p:blipFill>
          <p:spPr>
            <a:xfrm>
              <a:off x="4651200" y="5254560"/>
              <a:ext cx="731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16200000">
              <a:off x="4728600" y="52880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bfa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TextBox 14"/>
          <p:cNvSpPr/>
          <p:nvPr/>
        </p:nvSpPr>
        <p:spPr>
          <a:xfrm rot="19652400">
            <a:off x="5780880" y="1676520"/>
            <a:ext cx="34632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6"/>
          <p:cNvSpPr/>
          <p:nvPr/>
        </p:nvSpPr>
        <p:spPr>
          <a:xfrm rot="19188000">
            <a:off x="4003560" y="3565440"/>
            <a:ext cx="38664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7"/>
          <p:cNvSpPr/>
          <p:nvPr/>
        </p:nvSpPr>
        <p:spPr>
          <a:xfrm rot="1558800">
            <a:off x="6810840" y="4789440"/>
            <a:ext cx="41256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8"/>
          <p:cNvSpPr/>
          <p:nvPr/>
        </p:nvSpPr>
        <p:spPr>
          <a:xfrm rot="5133600">
            <a:off x="2923560" y="4744440"/>
            <a:ext cx="27612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364000" y="4005360"/>
            <a:ext cx="287640" cy="52056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81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0"/>
          <p:cNvSpPr/>
          <p:nvPr/>
        </p:nvSpPr>
        <p:spPr>
          <a:xfrm rot="21310200">
            <a:off x="3368160" y="5178600"/>
            <a:ext cx="220680" cy="58140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1"/>
          <p:cNvSpPr/>
          <p:nvPr/>
        </p:nvSpPr>
        <p:spPr>
          <a:xfrm rot="15934200">
            <a:off x="5977080" y="4150800"/>
            <a:ext cx="573120" cy="45972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5"/>
          <p:cNvSpPr/>
          <p:nvPr/>
        </p:nvSpPr>
        <p:spPr>
          <a:xfrm rot="5163000">
            <a:off x="5558760" y="4517640"/>
            <a:ext cx="209520" cy="520560"/>
          </a:xfrm>
          <a:prstGeom prst="rect">
            <a:avLst/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9" descr="ii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4460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7"/>
          <p:cNvPicPr/>
          <p:nvPr/>
        </p:nvPicPr>
        <p:blipFill>
          <a:blip r:embed="rId2"/>
          <a:stretch/>
        </p:blipFill>
        <p:spPr>
          <a:xfrm>
            <a:off x="324000" y="765000"/>
            <a:ext cx="3902040" cy="5867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332" name="Text Box 3"/>
          <p:cNvSpPr/>
          <p:nvPr/>
        </p:nvSpPr>
        <p:spPr>
          <a:xfrm>
            <a:off x="5003640" y="530064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Пшениц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1643040" y="114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75722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5" name="TextBox 3"/>
          <p:cNvSpPr/>
          <p:nvPr/>
        </p:nvSpPr>
        <p:spPr>
          <a:xfrm>
            <a:off x="8072280" y="42876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715160" y="0"/>
            <a:ext cx="857520" cy="880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7715160" y="928800"/>
            <a:ext cx="928800" cy="903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7929720" y="2786040"/>
            <a:ext cx="717480" cy="10717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9"/>
          <p:cNvSpPr/>
          <p:nvPr/>
        </p:nvSpPr>
        <p:spPr>
          <a:xfrm>
            <a:off x="7858080" y="5214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8142120" y="3867120"/>
            <a:ext cx="955800" cy="1058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C:\Users\Toshiba\Desktop\Новый портфель\Знаки на дорогах\1-28.jpg"/>
          <p:cNvPicPr/>
          <p:nvPr/>
        </p:nvPicPr>
        <p:blipFill>
          <a:blip r:embed="rId6"/>
          <a:stretch/>
        </p:blipFill>
        <p:spPr>
          <a:xfrm>
            <a:off x="7500960" y="4714920"/>
            <a:ext cx="1000080" cy="1166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7">
            <a:lum contrast="24000"/>
          </a:blip>
          <a:stretch/>
        </p:blipFill>
        <p:spPr>
          <a:xfrm>
            <a:off x="7858080" y="1857240"/>
            <a:ext cx="939960" cy="9129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3"/>
          <p:cNvSpPr/>
          <p:nvPr/>
        </p:nvSpPr>
        <p:spPr>
          <a:xfrm>
            <a:off x="7715160" y="6357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2" descr="C:\Users\Toshiba\Desktop\Новый портфель\Знаки на дорогах\1-4.jpg"/>
          <p:cNvPicPr/>
          <p:nvPr/>
        </p:nvPicPr>
        <p:blipFill>
          <a:blip r:embed="rId8"/>
          <a:stretch/>
        </p:blipFill>
        <p:spPr>
          <a:xfrm>
            <a:off x="8102520" y="5643720"/>
            <a:ext cx="10414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5323 0.32037 E">
                                      <p:cBhvr>
                                        <p:cTn id="483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10312 0.26736 E">
                                      <p:cBhvr>
                                        <p:cTn id="48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66632 -0.17315 E">
                                      <p:cBhvr>
                                        <p:cTn id="49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-0.47413 -0.25648 E">
                                      <p:cBhvr>
                                        <p:cTn id="49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L -0.77795 -0.34259 E">
                                      <p:cBhvr>
                                        <p:cTn id="49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48148E-006 L -0.39496 0.22569 E">
                                      <p:cBhvr>
                                        <p:cTn id="50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39584 -0.60023 E">
                                      <p:cBhvr>
                                        <p:cTn id="50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210960" y="3384720"/>
            <a:ext cx="8704440" cy="246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228600" y="3400560"/>
            <a:ext cx="7315200" cy="2466720"/>
          </a:xfrm>
          <a:custGeom>
            <a:avLst/>
            <a:gdLst/>
            <a:ahLst/>
            <a:rect l="l" t="t" r="r" b="b"/>
            <a:pathLst>
              <a:path w="655" h="1554">
                <a:moveTo>
                  <a:pt x="0" y="0"/>
                </a:moveTo>
                <a:lnTo>
                  <a:pt x="652" y="0"/>
                </a:lnTo>
                <a:lnTo>
                  <a:pt x="655" y="1554"/>
                </a:lnTo>
                <a:lnTo>
                  <a:pt x="1" y="15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7" name="Group 5"/>
          <p:cNvGrpSpPr/>
          <p:nvPr/>
        </p:nvGrpSpPr>
        <p:grpSpPr>
          <a:xfrm>
            <a:off x="1676520" y="3390840"/>
            <a:ext cx="5866920" cy="2463840"/>
            <a:chOff x="1676520" y="3390840"/>
            <a:chExt cx="5866920" cy="2463840"/>
          </a:xfrm>
        </p:grpSpPr>
        <p:sp>
          <p:nvSpPr>
            <p:cNvPr id="348" name="Line 6"/>
            <p:cNvSpPr/>
            <p:nvPr/>
          </p:nvSpPr>
          <p:spPr>
            <a:xfrm>
              <a:off x="610308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Line 7"/>
            <p:cNvSpPr/>
            <p:nvPr/>
          </p:nvSpPr>
          <p:spPr>
            <a:xfrm>
              <a:off x="1676520" y="34034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8"/>
            <p:cNvSpPr/>
            <p:nvPr/>
          </p:nvSpPr>
          <p:spPr>
            <a:xfrm>
              <a:off x="7543440" y="33908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320544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645080" y="341604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1"/>
          <p:cNvGrpSpPr/>
          <p:nvPr/>
        </p:nvGrpSpPr>
        <p:grpSpPr>
          <a:xfrm>
            <a:off x="-2743920" y="4495680"/>
            <a:ext cx="2743920" cy="1218960"/>
            <a:chOff x="-2743920" y="4495680"/>
            <a:chExt cx="2743920" cy="1218960"/>
          </a:xfrm>
        </p:grpSpPr>
        <p:grpSp>
          <p:nvGrpSpPr>
            <p:cNvPr id="354" name="Group 12"/>
            <p:cNvGrpSpPr/>
            <p:nvPr/>
          </p:nvGrpSpPr>
          <p:grpSpPr>
            <a:xfrm>
              <a:off x="-2743920" y="4495680"/>
              <a:ext cx="2635200" cy="1218960"/>
              <a:chOff x="-2743920" y="4495680"/>
              <a:chExt cx="2635200" cy="1218960"/>
            </a:xfrm>
          </p:grpSpPr>
          <p:grpSp>
            <p:nvGrpSpPr>
              <p:cNvPr id="355" name="Group 13"/>
              <p:cNvGrpSpPr/>
              <p:nvPr/>
            </p:nvGrpSpPr>
            <p:grpSpPr>
              <a:xfrm>
                <a:off x="-1764000" y="4894200"/>
                <a:ext cx="394920" cy="226440"/>
                <a:chOff x="-1764000" y="4894200"/>
                <a:chExt cx="394920" cy="226440"/>
              </a:xfrm>
            </p:grpSpPr>
            <p:sp>
              <p:nvSpPr>
                <p:cNvPr id="356" name="Freeform 14"/>
                <p:cNvSpPr/>
                <p:nvPr/>
              </p:nvSpPr>
              <p:spPr>
                <a:xfrm flipH="1" rot="19892400">
                  <a:off x="-1597320" y="4934160"/>
                  <a:ext cx="205560" cy="146160"/>
                </a:xfrm>
                <a:custGeom>
                  <a:avLst/>
                  <a:gdLst>
                    <a:gd name="textAreaLeft" fmla="*/ 360 w 205560"/>
                    <a:gd name="textAreaRight" fmla="*/ 206280 w 205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7" name="Freeform 15"/>
                <p:cNvSpPr/>
                <p:nvPr/>
              </p:nvSpPr>
              <p:spPr>
                <a:xfrm rot="1707600">
                  <a:off x="-1741680" y="4934160"/>
                  <a:ext cx="205560" cy="14616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272" h="136">
                      <a:moveTo>
                        <a:pt x="0" y="136"/>
                      </a:moveTo>
                      <a:cubicBezTo>
                        <a:pt x="16" y="123"/>
                        <a:pt x="64" y="61"/>
                        <a:pt x="96" y="56"/>
                      </a:cubicBezTo>
                      <a:cubicBezTo>
                        <a:pt x="128" y="51"/>
                        <a:pt x="163" y="107"/>
                        <a:pt x="192" y="104"/>
                      </a:cubicBezTo>
                      <a:cubicBezTo>
                        <a:pt x="221" y="101"/>
                        <a:pt x="272" y="57"/>
                        <a:pt x="272" y="40"/>
                      </a:cubicBezTo>
                      <a:cubicBezTo>
                        <a:pt x="272" y="23"/>
                        <a:pt x="209" y="8"/>
                        <a:pt x="192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8" name="Group 16"/>
              <p:cNvGrpSpPr/>
              <p:nvPr/>
            </p:nvGrpSpPr>
            <p:grpSpPr>
              <a:xfrm>
                <a:off x="-2743920" y="4495680"/>
                <a:ext cx="2635200" cy="1218960"/>
                <a:chOff x="-2743920" y="4495680"/>
                <a:chExt cx="2635200" cy="1218960"/>
              </a:xfrm>
            </p:grpSpPr>
            <p:grpSp>
              <p:nvGrpSpPr>
                <p:cNvPr id="359" name="Group 17"/>
                <p:cNvGrpSpPr/>
                <p:nvPr/>
              </p:nvGrpSpPr>
              <p:grpSpPr>
                <a:xfrm>
                  <a:off x="-1431000" y="4495680"/>
                  <a:ext cx="1322280" cy="764640"/>
                  <a:chOff x="-1431000" y="4495680"/>
                  <a:chExt cx="1322280" cy="764640"/>
                </a:xfrm>
              </p:grpSpPr>
              <p:sp>
                <p:nvSpPr>
                  <p:cNvPr id="360" name="Freeform 18"/>
                  <p:cNvSpPr/>
                  <p:nvPr/>
                </p:nvSpPr>
                <p:spPr>
                  <a:xfrm flipH="1">
                    <a:off x="-1431360" y="4516200"/>
                    <a:ext cx="1322280" cy="744120"/>
                  </a:xfrm>
                  <a:custGeom>
                    <a:avLst/>
                    <a:gdLst>
                      <a:gd name="textAreaLeft" fmla="*/ 360 w 1322280"/>
                      <a:gd name="textAreaRight" fmla="*/ 1323000 w 1322280"/>
                      <a:gd name="textAreaTop" fmla="*/ 0 h 744120"/>
                      <a:gd name="textAreaBottom" fmla="*/ 744480 h 744120"/>
                    </a:gdLst>
                    <a:ahLst/>
                    <a:rect l="textAreaLeft" t="textAreaTop" r="textAreaRight" b="textAreaBottom"/>
                    <a:pathLst>
                      <a:path w="3714" h="2148">
                        <a:moveTo>
                          <a:pt x="3120" y="960"/>
                        </a:moveTo>
                        <a:lnTo>
                          <a:pt x="3168" y="96"/>
                        </a:lnTo>
                        <a:lnTo>
                          <a:pt x="1872" y="0"/>
                        </a:lnTo>
                        <a:lnTo>
                          <a:pt x="1638" y="876"/>
                        </a:lnTo>
                        <a:lnTo>
                          <a:pt x="768" y="864"/>
                        </a:lnTo>
                        <a:lnTo>
                          <a:pt x="0" y="816"/>
                        </a:lnTo>
                        <a:lnTo>
                          <a:pt x="0" y="1056"/>
                        </a:lnTo>
                        <a:lnTo>
                          <a:pt x="96" y="1056"/>
                        </a:lnTo>
                        <a:lnTo>
                          <a:pt x="96" y="1776"/>
                        </a:lnTo>
                        <a:lnTo>
                          <a:pt x="102" y="1896"/>
                        </a:lnTo>
                        <a:lnTo>
                          <a:pt x="342" y="1944"/>
                        </a:lnTo>
                        <a:lnTo>
                          <a:pt x="450" y="2016"/>
                        </a:lnTo>
                        <a:lnTo>
                          <a:pt x="558" y="2112"/>
                        </a:lnTo>
                        <a:lnTo>
                          <a:pt x="750" y="2148"/>
                        </a:lnTo>
                        <a:lnTo>
                          <a:pt x="858" y="1884"/>
                        </a:lnTo>
                        <a:lnTo>
                          <a:pt x="1074" y="1896"/>
                        </a:lnTo>
                        <a:lnTo>
                          <a:pt x="1248" y="1824"/>
                        </a:lnTo>
                        <a:lnTo>
                          <a:pt x="1584" y="1968"/>
                        </a:lnTo>
                        <a:lnTo>
                          <a:pt x="1584" y="1824"/>
                        </a:lnTo>
                        <a:lnTo>
                          <a:pt x="1776" y="1872"/>
                        </a:lnTo>
                        <a:lnTo>
                          <a:pt x="1824" y="1680"/>
                        </a:lnTo>
                        <a:lnTo>
                          <a:pt x="1872" y="1536"/>
                        </a:lnTo>
                        <a:lnTo>
                          <a:pt x="1968" y="1440"/>
                        </a:lnTo>
                        <a:lnTo>
                          <a:pt x="2160" y="1248"/>
                        </a:lnTo>
                        <a:lnTo>
                          <a:pt x="2352" y="1152"/>
                        </a:lnTo>
                        <a:lnTo>
                          <a:pt x="2592" y="1056"/>
                        </a:lnTo>
                        <a:lnTo>
                          <a:pt x="2880" y="1056"/>
                        </a:lnTo>
                        <a:lnTo>
                          <a:pt x="3066" y="1104"/>
                        </a:lnTo>
                        <a:lnTo>
                          <a:pt x="3258" y="1188"/>
                        </a:lnTo>
                        <a:lnTo>
                          <a:pt x="3390" y="1272"/>
                        </a:lnTo>
                        <a:lnTo>
                          <a:pt x="3510" y="1392"/>
                        </a:lnTo>
                        <a:lnTo>
                          <a:pt x="3678" y="1596"/>
                        </a:lnTo>
                        <a:lnTo>
                          <a:pt x="3714" y="1584"/>
                        </a:lnTo>
                        <a:lnTo>
                          <a:pt x="3558" y="1332"/>
                        </a:lnTo>
                        <a:lnTo>
                          <a:pt x="3270" y="1068"/>
                        </a:lnTo>
                        <a:lnTo>
                          <a:pt x="3120" y="96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6600"/>
                      </a:gs>
                      <a:gs pos="50000">
                        <a:srgbClr val="333333"/>
                      </a:gs>
                      <a:gs pos="100000">
                        <a:srgbClr val="33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1" name="Freeform 19"/>
                  <p:cNvSpPr/>
                  <p:nvPr/>
                </p:nvSpPr>
                <p:spPr>
                  <a:xfrm flipH="1">
                    <a:off x="-707040" y="4749120"/>
                    <a:ext cx="597960" cy="70560"/>
                  </a:xfrm>
                  <a:custGeom>
                    <a:avLst/>
                    <a:gdLst>
                      <a:gd name="textAreaLeft" fmla="*/ 360 w 597960"/>
                      <a:gd name="textAreaRight" fmla="*/ 598680 w 597960"/>
                      <a:gd name="textAreaTop" fmla="*/ 0 h 70560"/>
                      <a:gd name="textAreaBottom" fmla="*/ 70920 h 70560"/>
                    </a:gdLst>
                    <a:ahLst/>
                    <a:rect l="textAreaLeft" t="textAreaTop" r="textAreaRight" b="textAreaBottom"/>
                    <a:pathLst>
                      <a:path w="1680" h="204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1680" y="96"/>
                        </a:lnTo>
                        <a:lnTo>
                          <a:pt x="1626" y="204"/>
                        </a:lnTo>
                        <a:lnTo>
                          <a:pt x="894" y="192"/>
                        </a:lnTo>
                        <a:lnTo>
                          <a:pt x="48" y="144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2" name="Freeform 20"/>
                  <p:cNvSpPr/>
                  <p:nvPr/>
                </p:nvSpPr>
                <p:spPr>
                  <a:xfrm flipH="1">
                    <a:off x="-386280" y="4524480"/>
                    <a:ext cx="78840" cy="172440"/>
                  </a:xfrm>
                  <a:custGeom>
                    <a:avLst/>
                    <a:gdLst>
                      <a:gd name="textAreaLeft" fmla="*/ 360 w 78840"/>
                      <a:gd name="textAreaRight" fmla="*/ 79560 w 78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222" h="498">
                        <a:moveTo>
                          <a:pt x="145" y="468"/>
                        </a:moveTo>
                        <a:cubicBezTo>
                          <a:pt x="158" y="492"/>
                          <a:pt x="200" y="498"/>
                          <a:pt x="211" y="456"/>
                        </a:cubicBezTo>
                        <a:cubicBezTo>
                          <a:pt x="222" y="414"/>
                          <a:pt x="219" y="288"/>
                          <a:pt x="211" y="216"/>
                        </a:cubicBezTo>
                        <a:cubicBezTo>
                          <a:pt x="203" y="144"/>
                          <a:pt x="195" y="48"/>
                          <a:pt x="163" y="24"/>
                        </a:cubicBezTo>
                        <a:cubicBezTo>
                          <a:pt x="131" y="0"/>
                          <a:pt x="38" y="54"/>
                          <a:pt x="19" y="72"/>
                        </a:cubicBezTo>
                        <a:cubicBezTo>
                          <a:pt x="0" y="90"/>
                          <a:pt x="32" y="124"/>
                          <a:pt x="49" y="132"/>
                        </a:cubicBezTo>
                        <a:cubicBezTo>
                          <a:pt x="66" y="140"/>
                          <a:pt x="107" y="90"/>
                          <a:pt x="121" y="120"/>
                        </a:cubicBezTo>
                        <a:cubicBezTo>
                          <a:pt x="135" y="150"/>
                          <a:pt x="129" y="254"/>
                          <a:pt x="133" y="312"/>
                        </a:cubicBezTo>
                        <a:cubicBezTo>
                          <a:pt x="137" y="370"/>
                          <a:pt x="132" y="444"/>
                          <a:pt x="145" y="46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3" name="Freeform 21"/>
                  <p:cNvSpPr/>
                  <p:nvPr/>
                </p:nvSpPr>
                <p:spPr>
                  <a:xfrm flipH="1">
                    <a:off x="-1230480" y="4495680"/>
                    <a:ext cx="457200" cy="62280"/>
                  </a:xfrm>
                  <a:custGeom>
                    <a:avLst/>
                    <a:gdLst>
                      <a:gd name="textAreaLeft" fmla="*/ -360 w 457200"/>
                      <a:gd name="textAreaRight" fmla="*/ 457200 w 45720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1284" h="180">
                        <a:moveTo>
                          <a:pt x="0" y="72"/>
                        </a:moveTo>
                        <a:lnTo>
                          <a:pt x="24" y="0"/>
                        </a:lnTo>
                        <a:lnTo>
                          <a:pt x="1176" y="84"/>
                        </a:lnTo>
                        <a:lnTo>
                          <a:pt x="1284" y="180"/>
                        </a:lnTo>
                        <a:lnTo>
                          <a:pt x="12" y="72"/>
                        </a:lnTo>
                      </a:path>
                    </a:pathLst>
                  </a:custGeom>
                  <a:solidFill>
                    <a:srgbClr val="33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Line 22"/>
                  <p:cNvSpPr/>
                  <p:nvPr/>
                </p:nvSpPr>
                <p:spPr>
                  <a:xfrm flipH="1">
                    <a:off x="-689760" y="4882320"/>
                    <a:ext cx="546840" cy="1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5" name="Freeform 23"/>
                  <p:cNvSpPr/>
                  <p:nvPr/>
                </p:nvSpPr>
                <p:spPr>
                  <a:xfrm flipH="1">
                    <a:off x="-399600" y="4682880"/>
                    <a:ext cx="85320" cy="257760"/>
                  </a:xfrm>
                  <a:custGeom>
                    <a:avLst/>
                    <a:gdLst>
                      <a:gd name="textAreaLeft" fmla="*/ 360 w 85320"/>
                      <a:gd name="textAreaRight" fmla="*/ 86040 w 85320"/>
                      <a:gd name="textAreaTop" fmla="*/ 0 h 257760"/>
                      <a:gd name="textAreaBottom" fmla="*/ 258120 h 257760"/>
                    </a:gdLst>
                    <a:ahLst/>
                    <a:rect l="textAreaLeft" t="textAreaTop" r="textAreaRight" b="textAreaBottom"/>
                    <a:pathLst>
                      <a:path w="240" h="744">
                        <a:moveTo>
                          <a:pt x="144" y="720"/>
                        </a:moveTo>
                        <a:lnTo>
                          <a:pt x="144" y="576"/>
                        </a:lnTo>
                        <a:lnTo>
                          <a:pt x="240" y="576"/>
                        </a:lnTo>
                        <a:lnTo>
                          <a:pt x="240" y="48"/>
                        </a:lnTo>
                        <a:lnTo>
                          <a:pt x="144" y="0"/>
                        </a:lnTo>
                        <a:lnTo>
                          <a:pt x="0" y="48"/>
                        </a:lnTo>
                        <a:lnTo>
                          <a:pt x="0" y="576"/>
                        </a:lnTo>
                        <a:lnTo>
                          <a:pt x="96" y="576"/>
                        </a:lnTo>
                        <a:lnTo>
                          <a:pt x="78" y="684"/>
                        </a:lnTo>
                        <a:lnTo>
                          <a:pt x="102" y="744"/>
                        </a:lnTo>
                        <a:lnTo>
                          <a:pt x="144" y="72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0c0c0"/>
                      </a:gs>
                      <a:gs pos="50000">
                        <a:srgbClr val="5f5f5f"/>
                      </a:gs>
                      <a:gs pos="100000">
                        <a:srgbClr val="c0c0c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6" name="Freeform 24"/>
                  <p:cNvSpPr/>
                  <p:nvPr/>
                </p:nvSpPr>
                <p:spPr>
                  <a:xfrm flipH="1">
                    <a:off x="-690840" y="4815720"/>
                    <a:ext cx="360" cy="316080"/>
                  </a:xfrm>
                  <a:custGeom>
                    <a:avLst/>
                    <a:gdLst>
                      <a:gd name="textAreaLeft" fmla="*/ 360 w 360"/>
                      <a:gd name="textAreaRight" fmla="*/ 1080 w 360"/>
                      <a:gd name="textAreaTop" fmla="*/ 0 h 316080"/>
                      <a:gd name="textAreaBottom" fmla="*/ 316440 h 316080"/>
                    </a:gdLst>
                    <a:ahLst/>
                    <a:rect l="textAreaLeft" t="textAreaTop" r="textAreaRight" b="textAreaBottom"/>
                    <a:pathLst>
                      <a:path w="1" h="912">
                        <a:moveTo>
                          <a:pt x="0" y="912"/>
                        </a:moveTo>
                        <a:lnTo>
                          <a:pt x="0" y="28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7" name="Line 25"/>
                  <p:cNvSpPr/>
                  <p:nvPr/>
                </p:nvSpPr>
                <p:spPr>
                  <a:xfrm>
                    <a:off x="-553320" y="4898880"/>
                    <a:ext cx="0" cy="23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8" name="Line 26"/>
                  <p:cNvSpPr/>
                  <p:nvPr/>
                </p:nvSpPr>
                <p:spPr>
                  <a:xfrm>
                    <a:off x="-399600" y="4898880"/>
                    <a:ext cx="0" cy="29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9" name="Freeform 27"/>
                  <p:cNvSpPr/>
                  <p:nvPr/>
                </p:nvSpPr>
                <p:spPr>
                  <a:xfrm flipH="1">
                    <a:off x="-1198800" y="4617720"/>
                    <a:ext cx="193320" cy="186840"/>
                  </a:xfrm>
                  <a:custGeom>
                    <a:avLst/>
                    <a:gdLst>
                      <a:gd name="textAreaLeft" fmla="*/ 360 w 193320"/>
                      <a:gd name="textAreaRight" fmla="*/ 194040 w 19332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543" h="540">
                        <a:moveTo>
                          <a:pt x="267" y="524"/>
                        </a:moveTo>
                        <a:cubicBezTo>
                          <a:pt x="323" y="536"/>
                          <a:pt x="374" y="540"/>
                          <a:pt x="411" y="524"/>
                        </a:cubicBezTo>
                        <a:cubicBezTo>
                          <a:pt x="448" y="508"/>
                          <a:pt x="472" y="504"/>
                          <a:pt x="489" y="428"/>
                        </a:cubicBezTo>
                        <a:cubicBezTo>
                          <a:pt x="506" y="352"/>
                          <a:pt x="543" y="136"/>
                          <a:pt x="513" y="68"/>
                        </a:cubicBezTo>
                        <a:cubicBezTo>
                          <a:pt x="483" y="0"/>
                          <a:pt x="382" y="24"/>
                          <a:pt x="309" y="20"/>
                        </a:cubicBezTo>
                        <a:cubicBezTo>
                          <a:pt x="236" y="16"/>
                          <a:pt x="122" y="24"/>
                          <a:pt x="75" y="44"/>
                        </a:cubicBezTo>
                        <a:cubicBezTo>
                          <a:pt x="28" y="64"/>
                          <a:pt x="38" y="96"/>
                          <a:pt x="27" y="140"/>
                        </a:cubicBezTo>
                        <a:cubicBezTo>
                          <a:pt x="16" y="184"/>
                          <a:pt x="9" y="252"/>
                          <a:pt x="9" y="308"/>
                        </a:cubicBezTo>
                        <a:cubicBezTo>
                          <a:pt x="9" y="364"/>
                          <a:pt x="0" y="440"/>
                          <a:pt x="27" y="476"/>
                        </a:cubicBezTo>
                        <a:cubicBezTo>
                          <a:pt x="54" y="512"/>
                          <a:pt x="123" y="516"/>
                          <a:pt x="171" y="524"/>
                        </a:cubicBezTo>
                        <a:cubicBezTo>
                          <a:pt x="219" y="532"/>
                          <a:pt x="267" y="528"/>
                          <a:pt x="315" y="524"/>
                        </a:cubicBez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0" name="Freeform 28"/>
                  <p:cNvSpPr/>
                  <p:nvPr/>
                </p:nvSpPr>
                <p:spPr>
                  <a:xfrm flipH="1">
                    <a:off x="-948960" y="4596840"/>
                    <a:ext cx="200160" cy="186840"/>
                  </a:xfrm>
                  <a:custGeom>
                    <a:avLst/>
                    <a:gdLst>
                      <a:gd name="textAreaLeft" fmla="*/ -360 w 200160"/>
                      <a:gd name="textAreaRight" fmla="*/ 200160 w 200160"/>
                      <a:gd name="textAreaTop" fmla="*/ 0 h 186840"/>
                      <a:gd name="textAreaBottom" fmla="*/ 187200 h 186840"/>
                    </a:gdLst>
                    <a:ahLst/>
                    <a:rect l="textAreaLeft" t="textAreaTop" r="textAreaRight" b="textAreaBottom"/>
                    <a:pathLst>
                      <a:path w="562" h="540">
                        <a:moveTo>
                          <a:pt x="363" y="8"/>
                        </a:moveTo>
                        <a:cubicBezTo>
                          <a:pt x="412" y="12"/>
                          <a:pt x="481" y="16"/>
                          <a:pt x="513" y="32"/>
                        </a:cubicBezTo>
                        <a:cubicBezTo>
                          <a:pt x="545" y="48"/>
                          <a:pt x="548" y="60"/>
                          <a:pt x="555" y="104"/>
                        </a:cubicBezTo>
                        <a:cubicBezTo>
                          <a:pt x="562" y="148"/>
                          <a:pt x="558" y="230"/>
                          <a:pt x="555" y="296"/>
                        </a:cubicBezTo>
                        <a:cubicBezTo>
                          <a:pt x="552" y="362"/>
                          <a:pt x="561" y="460"/>
                          <a:pt x="537" y="500"/>
                        </a:cubicBezTo>
                        <a:cubicBezTo>
                          <a:pt x="513" y="540"/>
                          <a:pt x="469" y="534"/>
                          <a:pt x="411" y="536"/>
                        </a:cubicBezTo>
                        <a:cubicBezTo>
                          <a:pt x="353" y="538"/>
                          <a:pt x="253" y="520"/>
                          <a:pt x="189" y="512"/>
                        </a:cubicBezTo>
                        <a:cubicBezTo>
                          <a:pt x="125" y="504"/>
                          <a:pt x="54" y="508"/>
                          <a:pt x="27" y="488"/>
                        </a:cubicBezTo>
                        <a:cubicBezTo>
                          <a:pt x="0" y="468"/>
                          <a:pt x="14" y="438"/>
                          <a:pt x="27" y="392"/>
                        </a:cubicBezTo>
                        <a:cubicBezTo>
                          <a:pt x="40" y="346"/>
                          <a:pt x="81" y="268"/>
                          <a:pt x="105" y="212"/>
                        </a:cubicBezTo>
                        <a:cubicBezTo>
                          <a:pt x="129" y="156"/>
                          <a:pt x="152" y="90"/>
                          <a:pt x="171" y="56"/>
                        </a:cubicBezTo>
                        <a:cubicBezTo>
                          <a:pt x="190" y="22"/>
                          <a:pt x="187" y="16"/>
                          <a:pt x="219" y="8"/>
                        </a:cubicBezTo>
                        <a:cubicBezTo>
                          <a:pt x="251" y="0"/>
                          <a:pt x="315" y="8"/>
                          <a:pt x="363" y="8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1" name="Freeform 29"/>
                  <p:cNvSpPr/>
                  <p:nvPr/>
                </p:nvSpPr>
                <p:spPr>
                  <a:xfrm flipH="1">
                    <a:off x="-898200" y="4782600"/>
                    <a:ext cx="179280" cy="138600"/>
                  </a:xfrm>
                  <a:custGeom>
                    <a:avLst/>
                    <a:gdLst>
                      <a:gd name="textAreaLeft" fmla="*/ -360 w 179280"/>
                      <a:gd name="textAreaRight" fmla="*/ 179280 w 179280"/>
                      <a:gd name="textAreaTop" fmla="*/ 0 h 138600"/>
                      <a:gd name="textAreaBottom" fmla="*/ 138960 h 138600"/>
                    </a:gdLst>
                    <a:ahLst/>
                    <a:rect l="textAreaLeft" t="textAreaTop" r="textAreaRight" b="textAreaBottom"/>
                    <a:pathLst>
                      <a:path w="504" h="400">
                        <a:moveTo>
                          <a:pt x="111" y="384"/>
                        </a:moveTo>
                        <a:cubicBezTo>
                          <a:pt x="143" y="392"/>
                          <a:pt x="175" y="400"/>
                          <a:pt x="207" y="384"/>
                        </a:cubicBezTo>
                        <a:cubicBezTo>
                          <a:pt x="239" y="368"/>
                          <a:pt x="263" y="320"/>
                          <a:pt x="303" y="288"/>
                        </a:cubicBezTo>
                        <a:cubicBezTo>
                          <a:pt x="343" y="256"/>
                          <a:pt x="415" y="216"/>
                          <a:pt x="447" y="192"/>
                        </a:cubicBezTo>
                        <a:cubicBezTo>
                          <a:pt x="479" y="168"/>
                          <a:pt x="490" y="164"/>
                          <a:pt x="495" y="144"/>
                        </a:cubicBezTo>
                        <a:cubicBezTo>
                          <a:pt x="500" y="124"/>
                          <a:pt x="504" y="90"/>
                          <a:pt x="477" y="72"/>
                        </a:cubicBezTo>
                        <a:cubicBezTo>
                          <a:pt x="450" y="54"/>
                          <a:pt x="377" y="44"/>
                          <a:pt x="333" y="36"/>
                        </a:cubicBezTo>
                        <a:cubicBezTo>
                          <a:pt x="289" y="28"/>
                          <a:pt x="257" y="28"/>
                          <a:pt x="213" y="24"/>
                        </a:cubicBezTo>
                        <a:cubicBezTo>
                          <a:pt x="169" y="20"/>
                          <a:pt x="102" y="0"/>
                          <a:pt x="69" y="12"/>
                        </a:cubicBezTo>
                        <a:cubicBezTo>
                          <a:pt x="36" y="24"/>
                          <a:pt x="25" y="58"/>
                          <a:pt x="15" y="96"/>
                        </a:cubicBezTo>
                        <a:cubicBezTo>
                          <a:pt x="5" y="134"/>
                          <a:pt x="10" y="200"/>
                          <a:pt x="9" y="240"/>
                        </a:cubicBezTo>
                        <a:cubicBezTo>
                          <a:pt x="8" y="280"/>
                          <a:pt x="0" y="312"/>
                          <a:pt x="9" y="336"/>
                        </a:cubicBezTo>
                        <a:cubicBezTo>
                          <a:pt x="18" y="360"/>
                          <a:pt x="38" y="376"/>
                          <a:pt x="63" y="384"/>
                        </a:cubicBezTo>
                        <a:cubicBezTo>
                          <a:pt x="88" y="392"/>
                          <a:pt x="119" y="392"/>
                          <a:pt x="159" y="384"/>
                        </a:cubicBez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2" name="Freeform 30"/>
                  <p:cNvSpPr/>
                  <p:nvPr/>
                </p:nvSpPr>
                <p:spPr>
                  <a:xfrm flipH="1">
                    <a:off x="-1407960" y="4866840"/>
                    <a:ext cx="672840" cy="294120"/>
                  </a:xfrm>
                  <a:custGeom>
                    <a:avLst/>
                    <a:gdLst>
                      <a:gd name="textAreaLeft" fmla="*/ 360 w 672840"/>
                      <a:gd name="textAreaRight" fmla="*/ 673560 w 672840"/>
                      <a:gd name="textAreaTop" fmla="*/ 0 h 294120"/>
                      <a:gd name="textAreaBottom" fmla="*/ 294480 h 294120"/>
                    </a:gdLst>
                    <a:ahLst/>
                    <a:rect l="textAreaLeft" t="textAreaTop" r="textAreaRight" b="textAreaBottom"/>
                    <a:pathLst>
                      <a:path w="1890" h="849">
                        <a:moveTo>
                          <a:pt x="0" y="849"/>
                        </a:moveTo>
                        <a:cubicBezTo>
                          <a:pt x="18" y="795"/>
                          <a:pt x="62" y="623"/>
                          <a:pt x="120" y="525"/>
                        </a:cubicBezTo>
                        <a:cubicBezTo>
                          <a:pt x="178" y="427"/>
                          <a:pt x="253" y="336"/>
                          <a:pt x="348" y="261"/>
                        </a:cubicBezTo>
                        <a:cubicBezTo>
                          <a:pt x="443" y="186"/>
                          <a:pt x="562" y="113"/>
                          <a:pt x="690" y="73"/>
                        </a:cubicBezTo>
                        <a:cubicBezTo>
                          <a:pt x="818" y="33"/>
                          <a:pt x="969" y="0"/>
                          <a:pt x="1116" y="21"/>
                        </a:cubicBezTo>
                        <a:cubicBezTo>
                          <a:pt x="1263" y="42"/>
                          <a:pt x="1443" y="112"/>
                          <a:pt x="1572" y="201"/>
                        </a:cubicBezTo>
                        <a:cubicBezTo>
                          <a:pt x="1701" y="290"/>
                          <a:pt x="1824" y="480"/>
                          <a:pt x="1890" y="553"/>
                        </a:cubicBezTo>
                      </a:path>
                    </a:pathLst>
                  </a:custGeom>
                  <a:noFill/>
                  <a:ln w="76320">
                    <a:solidFill>
                      <a:srgbClr val="33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3" name="Freeform 31"/>
                  <p:cNvSpPr/>
                  <p:nvPr/>
                </p:nvSpPr>
                <p:spPr>
                  <a:xfrm flipH="1">
                    <a:off x="-401760" y="4699440"/>
                    <a:ext cx="87480" cy="13680"/>
                  </a:xfrm>
                  <a:custGeom>
                    <a:avLst/>
                    <a:gdLst>
                      <a:gd name="textAreaLeft" fmla="*/ 360 w 87480"/>
                      <a:gd name="textAreaRight" fmla="*/ 88200 w 8748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46" h="40">
                        <a:moveTo>
                          <a:pt x="0" y="0"/>
                        </a:moveTo>
                        <a:cubicBezTo>
                          <a:pt x="19" y="6"/>
                          <a:pt x="73" y="32"/>
                          <a:pt x="114" y="36"/>
                        </a:cubicBezTo>
                        <a:cubicBezTo>
                          <a:pt x="155" y="40"/>
                          <a:pt x="219" y="26"/>
                          <a:pt x="24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4" name="Freeform 32"/>
                  <p:cNvSpPr/>
                  <p:nvPr/>
                </p:nvSpPr>
                <p:spPr>
                  <a:xfrm flipH="1">
                    <a:off x="-397440" y="4682160"/>
                    <a:ext cx="83160" cy="21240"/>
                  </a:xfrm>
                  <a:custGeom>
                    <a:avLst/>
                    <a:gdLst>
                      <a:gd name="textAreaLeft" fmla="*/ 360 w 83160"/>
                      <a:gd name="textAreaRight" fmla="*/ 83880 w 8316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234" h="62">
                        <a:moveTo>
                          <a:pt x="0" y="50"/>
                        </a:moveTo>
                        <a:cubicBezTo>
                          <a:pt x="23" y="42"/>
                          <a:pt x="99" y="0"/>
                          <a:pt x="138" y="2"/>
                        </a:cubicBezTo>
                        <a:cubicBezTo>
                          <a:pt x="177" y="4"/>
                          <a:pt x="214" y="50"/>
                          <a:pt x="234" y="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5" name="Group 33"/>
                <p:cNvGrpSpPr/>
                <p:nvPr/>
              </p:nvGrpSpPr>
              <p:grpSpPr>
                <a:xfrm>
                  <a:off x="-2743920" y="4739400"/>
                  <a:ext cx="1152000" cy="975240"/>
                  <a:chOff x="-2743920" y="4739400"/>
                  <a:chExt cx="1152000" cy="975240"/>
                </a:xfrm>
              </p:grpSpPr>
              <p:sp>
                <p:nvSpPr>
                  <p:cNvPr id="376" name="Freeform 34"/>
                  <p:cNvSpPr/>
                  <p:nvPr/>
                </p:nvSpPr>
                <p:spPr>
                  <a:xfrm flipH="1">
                    <a:off x="-1842480" y="5284080"/>
                    <a:ext cx="213840" cy="430560"/>
                  </a:xfrm>
                  <a:custGeom>
                    <a:avLst/>
                    <a:gdLst>
                      <a:gd name="textAreaLeft" fmla="*/ -360 w 213840"/>
                      <a:gd name="textAreaRight" fmla="*/ 213840 w 213840"/>
                      <a:gd name="textAreaTop" fmla="*/ 0 h 430560"/>
                      <a:gd name="textAreaBottom" fmla="*/ 430920 h 43056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Freeform 35"/>
                  <p:cNvSpPr/>
                  <p:nvPr/>
                </p:nvSpPr>
                <p:spPr>
                  <a:xfrm flipH="1">
                    <a:off x="-2042640" y="5178240"/>
                    <a:ext cx="199800" cy="390240"/>
                  </a:xfrm>
                  <a:custGeom>
                    <a:avLst/>
                    <a:gdLst>
                      <a:gd name="textAreaLeft" fmla="*/ 360 w 199800"/>
                      <a:gd name="textAreaRight" fmla="*/ 200520 w 19980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8" name="Freeform 36"/>
                  <p:cNvSpPr/>
                  <p:nvPr/>
                </p:nvSpPr>
                <p:spPr>
                  <a:xfrm flipH="1">
                    <a:off x="-2242800" y="5080680"/>
                    <a:ext cx="200160" cy="390240"/>
                  </a:xfrm>
                  <a:custGeom>
                    <a:avLst/>
                    <a:gdLst>
                      <a:gd name="textAreaLeft" fmla="*/ -360 w 200160"/>
                      <a:gd name="textAreaRight" fmla="*/ 200160 w 20016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9" name="Freeform 37"/>
                  <p:cNvSpPr/>
                  <p:nvPr/>
                </p:nvSpPr>
                <p:spPr>
                  <a:xfrm flipH="1">
                    <a:off x="-2393640" y="4983120"/>
                    <a:ext cx="150120" cy="390240"/>
                  </a:xfrm>
                  <a:custGeom>
                    <a:avLst/>
                    <a:gdLst>
                      <a:gd name="textAreaLeft" fmla="*/ 360 w 150120"/>
                      <a:gd name="textAreaRight" fmla="*/ 150840 w 15012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Freeform 38"/>
                  <p:cNvSpPr/>
                  <p:nvPr/>
                </p:nvSpPr>
                <p:spPr>
                  <a:xfrm flipH="1">
                    <a:off x="-2593440" y="4885560"/>
                    <a:ext cx="200160" cy="390240"/>
                  </a:xfrm>
                  <a:custGeom>
                    <a:avLst/>
                    <a:gdLst>
                      <a:gd name="textAreaLeft" fmla="*/ -360 w 200160"/>
                      <a:gd name="textAreaRight" fmla="*/ 200160 w 20016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1" name="Freeform 39"/>
                  <p:cNvSpPr/>
                  <p:nvPr/>
                </p:nvSpPr>
                <p:spPr>
                  <a:xfrm flipH="1">
                    <a:off x="-2744280" y="4788000"/>
                    <a:ext cx="150120" cy="390240"/>
                  </a:xfrm>
                  <a:custGeom>
                    <a:avLst/>
                    <a:gdLst>
                      <a:gd name="textAreaLeft" fmla="*/ 360 w 150120"/>
                      <a:gd name="textAreaRight" fmla="*/ 150840 w 15012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45" h="477">
                        <a:moveTo>
                          <a:pt x="53" y="0"/>
                        </a:moveTo>
                        <a:cubicBezTo>
                          <a:pt x="82" y="19"/>
                          <a:pt x="213" y="56"/>
                          <a:pt x="229" y="112"/>
                        </a:cubicBezTo>
                        <a:cubicBezTo>
                          <a:pt x="245" y="168"/>
                          <a:pt x="185" y="276"/>
                          <a:pt x="149" y="336"/>
                        </a:cubicBezTo>
                        <a:cubicBezTo>
                          <a:pt x="113" y="396"/>
                          <a:pt x="26" y="467"/>
                          <a:pt x="13" y="472"/>
                        </a:cubicBezTo>
                        <a:cubicBezTo>
                          <a:pt x="0" y="477"/>
                          <a:pt x="53" y="416"/>
                          <a:pt x="69" y="368"/>
                        </a:cubicBezTo>
                        <a:cubicBezTo>
                          <a:pt x="85" y="320"/>
                          <a:pt x="110" y="231"/>
                          <a:pt x="109" y="184"/>
                        </a:cubicBezTo>
                        <a:cubicBezTo>
                          <a:pt x="108" y="137"/>
                          <a:pt x="76" y="111"/>
                          <a:pt x="61" y="88"/>
                        </a:cubicBezTo>
                        <a:cubicBezTo>
                          <a:pt x="46" y="65"/>
                          <a:pt x="29" y="56"/>
                          <a:pt x="21" y="48"/>
                        </a:cubicBezTo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Freeform 40"/>
                  <p:cNvSpPr/>
                  <p:nvPr/>
                </p:nvSpPr>
                <p:spPr>
                  <a:xfrm flipH="1">
                    <a:off x="-2743920" y="4739400"/>
                    <a:ext cx="1151640" cy="634320"/>
                  </a:xfrm>
                  <a:custGeom>
                    <a:avLst/>
                    <a:gdLst>
                      <a:gd name="textAreaLeft" fmla="*/ 360 w 1151640"/>
                      <a:gd name="textAreaRight" fmla="*/ 1152360 w 1151640"/>
                      <a:gd name="textAreaTop" fmla="*/ 0 h 634320"/>
                      <a:gd name="textAreaBottom" fmla="*/ 634680 h 634320"/>
                    </a:gdLst>
                    <a:ahLst/>
                    <a:rect l="textAreaLeft" t="textAreaTop" r="textAreaRight" b="textAreaBottom"/>
                    <a:pathLst>
                      <a:path w="1104" h="624">
                        <a:moveTo>
                          <a:pt x="0" y="480"/>
                        </a:moveTo>
                        <a:lnTo>
                          <a:pt x="1104" y="0"/>
                        </a:lnTo>
                        <a:lnTo>
                          <a:pt x="1056" y="96"/>
                        </a:lnTo>
                        <a:lnTo>
                          <a:pt x="0" y="624"/>
                        </a:lnTo>
                        <a:lnTo>
                          <a:pt x="0" y="48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83" name="Freeform 41"/>
                <p:cNvSpPr/>
                <p:nvPr/>
              </p:nvSpPr>
              <p:spPr>
                <a:xfrm flipH="1">
                  <a:off x="-2484720" y="4845240"/>
                  <a:ext cx="792720" cy="276120"/>
                </a:xfrm>
                <a:custGeom>
                  <a:avLst/>
                  <a:gdLst>
                    <a:gd name="textAreaLeft" fmla="*/ -360 w 792720"/>
                    <a:gd name="textAreaRight" fmla="*/ 792720 w 792720"/>
                    <a:gd name="textAreaTop" fmla="*/ 0 h 276120"/>
                    <a:gd name="textAreaBottom" fmla="*/ 276480 h 276120"/>
                  </a:gdLst>
                  <a:ahLst/>
                  <a:rect l="textAreaLeft" t="textAreaTop" r="textAreaRight" b="textAreaBottom"/>
                  <a:pathLst>
                    <a:path w="760" h="272">
                      <a:moveTo>
                        <a:pt x="48" y="136"/>
                      </a:moveTo>
                      <a:lnTo>
                        <a:pt x="760" y="0"/>
                      </a:lnTo>
                      <a:lnTo>
                        <a:pt x="432" y="136"/>
                      </a:lnTo>
                      <a:lnTo>
                        <a:pt x="0" y="136"/>
                      </a:lnTo>
                      <a:lnTo>
                        <a:pt x="200" y="272"/>
                      </a:lnTo>
                      <a:lnTo>
                        <a:pt x="480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84" name="Group 42"/>
            <p:cNvGrpSpPr/>
            <p:nvPr/>
          </p:nvGrpSpPr>
          <p:grpSpPr>
            <a:xfrm>
              <a:off x="-1427040" y="4885560"/>
              <a:ext cx="717840" cy="698040"/>
              <a:chOff x="-1427040" y="4885560"/>
              <a:chExt cx="717840" cy="698040"/>
            </a:xfrm>
          </p:grpSpPr>
          <p:sp>
            <p:nvSpPr>
              <p:cNvPr id="385" name="Oval 43"/>
              <p:cNvSpPr/>
              <p:nvPr/>
            </p:nvSpPr>
            <p:spPr>
              <a:xfrm flipH="1">
                <a:off x="-1427040" y="4885560"/>
                <a:ext cx="717840" cy="6980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1f497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Oval 44"/>
              <p:cNvSpPr/>
              <p:nvPr/>
            </p:nvSpPr>
            <p:spPr>
              <a:xfrm flipH="1">
                <a:off x="-1305000" y="5004360"/>
                <a:ext cx="472680" cy="4600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Oval 45"/>
              <p:cNvSpPr/>
              <p:nvPr/>
            </p:nvSpPr>
            <p:spPr>
              <a:xfrm flipH="1">
                <a:off x="-1269720" y="5038560"/>
                <a:ext cx="402120" cy="39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Oval 46"/>
              <p:cNvSpPr/>
              <p:nvPr/>
            </p:nvSpPr>
            <p:spPr>
              <a:xfrm flipH="1">
                <a:off x="-1077480" y="505548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Oval 47"/>
              <p:cNvSpPr/>
              <p:nvPr/>
            </p:nvSpPr>
            <p:spPr>
              <a:xfrm flipH="1">
                <a:off x="-125208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Oval 48"/>
              <p:cNvSpPr/>
              <p:nvPr/>
            </p:nvSpPr>
            <p:spPr>
              <a:xfrm flipH="1">
                <a:off x="-1077480" y="5396400"/>
                <a:ext cx="1764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Oval 49"/>
              <p:cNvSpPr/>
              <p:nvPr/>
            </p:nvSpPr>
            <p:spPr>
              <a:xfrm flipH="1">
                <a:off x="-901800" y="524304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Oval 50"/>
              <p:cNvSpPr/>
              <p:nvPr/>
            </p:nvSpPr>
            <p:spPr>
              <a:xfrm flipH="1">
                <a:off x="-119952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Oval 51"/>
              <p:cNvSpPr/>
              <p:nvPr/>
            </p:nvSpPr>
            <p:spPr>
              <a:xfrm flipH="1">
                <a:off x="-95436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Oval 52"/>
              <p:cNvSpPr/>
              <p:nvPr/>
            </p:nvSpPr>
            <p:spPr>
              <a:xfrm flipH="1">
                <a:off x="-954360" y="512388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Oval 53"/>
              <p:cNvSpPr/>
              <p:nvPr/>
            </p:nvSpPr>
            <p:spPr>
              <a:xfrm flipH="1">
                <a:off x="-1199520" y="5344920"/>
                <a:ext cx="17280" cy="1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6" name="Group 54"/>
            <p:cNvGrpSpPr/>
            <p:nvPr/>
          </p:nvGrpSpPr>
          <p:grpSpPr>
            <a:xfrm>
              <a:off x="-358920" y="5170320"/>
              <a:ext cx="358920" cy="349560"/>
              <a:chOff x="-358920" y="5170320"/>
              <a:chExt cx="358920" cy="349560"/>
            </a:xfrm>
          </p:grpSpPr>
          <p:sp>
            <p:nvSpPr>
              <p:cNvPr id="397" name="Oval 55"/>
              <p:cNvSpPr/>
              <p:nvPr/>
            </p:nvSpPr>
            <p:spPr>
              <a:xfrm flipH="1">
                <a:off x="-359280" y="5170320"/>
                <a:ext cx="358920" cy="34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Oval 56"/>
              <p:cNvSpPr/>
              <p:nvPr/>
            </p:nvSpPr>
            <p:spPr>
              <a:xfrm flipH="1">
                <a:off x="-290520" y="5237280"/>
                <a:ext cx="222120" cy="21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Oval 57"/>
              <p:cNvSpPr/>
              <p:nvPr/>
            </p:nvSpPr>
            <p:spPr>
              <a:xfrm flipH="1">
                <a:off x="-205560" y="5319360"/>
                <a:ext cx="51840" cy="50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Oval 58"/>
              <p:cNvSpPr/>
              <p:nvPr/>
            </p:nvSpPr>
            <p:spPr>
              <a:xfrm flipH="1">
                <a:off x="-150120" y="5247360"/>
                <a:ext cx="2088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Oval 59"/>
              <p:cNvSpPr/>
              <p:nvPr/>
            </p:nvSpPr>
            <p:spPr>
              <a:xfrm flipH="1">
                <a:off x="-271440" y="529596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Oval 60"/>
              <p:cNvSpPr/>
              <p:nvPr/>
            </p:nvSpPr>
            <p:spPr>
              <a:xfrm flipH="1">
                <a:off x="-250560" y="541404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Oval 61"/>
              <p:cNvSpPr/>
              <p:nvPr/>
            </p:nvSpPr>
            <p:spPr>
              <a:xfrm flipH="1">
                <a:off x="-100440" y="5365080"/>
                <a:ext cx="2052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Oval 62"/>
              <p:cNvSpPr/>
              <p:nvPr/>
            </p:nvSpPr>
            <p:spPr>
              <a:xfrm flipH="1">
                <a:off x="-214200" y="5267520"/>
                <a:ext cx="1368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Oval 63"/>
              <p:cNvSpPr/>
              <p:nvPr/>
            </p:nvSpPr>
            <p:spPr>
              <a:xfrm flipH="1">
                <a:off x="-114120" y="531648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Oval 64"/>
              <p:cNvSpPr/>
              <p:nvPr/>
            </p:nvSpPr>
            <p:spPr>
              <a:xfrm flipH="1">
                <a:off x="-164160" y="5414040"/>
                <a:ext cx="13320" cy="1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Oval 65"/>
              <p:cNvSpPr/>
              <p:nvPr/>
            </p:nvSpPr>
            <p:spPr>
              <a:xfrm flipH="1">
                <a:off x="-264240" y="5365080"/>
                <a:ext cx="13320" cy="1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8" name="Text Box 77"/>
          <p:cNvSpPr/>
          <p:nvPr/>
        </p:nvSpPr>
        <p:spPr>
          <a:xfrm>
            <a:off x="214200" y="285840"/>
            <a:ext cx="835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  <a:ea typeface="Arial"/>
              </a:rPr>
              <a:t>Какую часть поля вспахал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  <a:ea typeface="Arial"/>
              </a:rPr>
              <a:t>тракторист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77"/>
          <p:cNvSpPr/>
          <p:nvPr/>
        </p:nvSpPr>
        <p:spPr>
          <a:xfrm>
            <a:off x="7576920" y="214200"/>
            <a:ext cx="81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9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4.44444E-006 L 0.95 -4.44444E-006 E">
                                      <p:cBhvr>
                                        <p:cTn id="520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Calibri"/>
              </a:rPr>
              <a:t>СЛИ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2714760" y="30002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Синий мундир,</a:t>
            </a:r>
            <a:br>
              <a:rPr sz="3200"/>
            </a:b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теплая подкладка,</a:t>
            </a:r>
            <a:br>
              <a:rPr sz="3200"/>
            </a:b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а в середине слад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D:\Documents and Settings\натуся\Local Settings\Temporary Internet Files\Content.IE5\F44GFCWG\MC900436910[1].png"/>
          <p:cNvPicPr/>
          <p:nvPr/>
        </p:nvPicPr>
        <p:blipFill>
          <a:blip r:embed="rId1"/>
          <a:stretch/>
        </p:blipFill>
        <p:spPr>
          <a:xfrm>
            <a:off x="1785960" y="714240"/>
            <a:ext cx="6500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3" descr="Циферблат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414" name="Прямая со стрелкой 8"/>
          <p:cNvCxnSpPr/>
          <p:nvPr/>
        </p:nvCxnSpPr>
        <p:spPr>
          <a:xfrm flipV="1">
            <a:off x="4571640" y="2208960"/>
            <a:ext cx="1981800" cy="11437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5" name="Прямая со стрелкой 5"/>
          <p:cNvCxnSpPr/>
          <p:nvPr/>
        </p:nvCxnSpPr>
        <p:spPr>
          <a:xfrm flipV="1">
            <a:off x="4570560" y="1143720"/>
            <a:ext cx="3600" cy="2134440"/>
          </a:xfrm>
          <a:prstGeom prst="straightConnector1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Прямая со стрелкой 13"/>
          <p:cNvCxnSpPr/>
          <p:nvPr/>
        </p:nvCxnSpPr>
        <p:spPr>
          <a:xfrm flipH="1" flipV="1">
            <a:off x="3733560" y="2133360"/>
            <a:ext cx="762480" cy="1219680"/>
          </a:xfrm>
          <a:prstGeom prst="straightConnector1">
            <a:avLst/>
          </a:prstGeom>
          <a:ln w="13032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грибница"/>
          <p:cNvPicPr/>
          <p:nvPr/>
        </p:nvPicPr>
        <p:blipFill>
          <a:blip r:embed="rId1"/>
          <a:stretch/>
        </p:blipFill>
        <p:spPr>
          <a:xfrm>
            <a:off x="1835280" y="171360"/>
            <a:ext cx="7308720" cy="66866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4356000" y="256536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omic Sans MS"/>
              </a:rPr>
              <a:t>шля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68360" y="486900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omic Sans MS"/>
              </a:rPr>
              <a:t>но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08000" y="5445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Comic Sans MS"/>
              </a:rPr>
              <a:t>гриб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2987640" y="5516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AutoShape 7"/>
          <p:cNvSpPr/>
          <p:nvPr/>
        </p:nvSpPr>
        <p:spPr>
          <a:xfrm>
            <a:off x="2484360" y="5013360"/>
            <a:ext cx="1368360" cy="504720"/>
          </a:xfrm>
          <a:prstGeom prst="rightArrow">
            <a:avLst>
              <a:gd name="adj1" fmla="val 50000"/>
              <a:gd name="adj2" fmla="val 6777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5292720" y="3357720"/>
            <a:ext cx="574560" cy="934920"/>
          </a:xfrm>
          <a:prstGeom prst="downArrow">
            <a:avLst>
              <a:gd name="adj1" fmla="val 50000"/>
              <a:gd name="adj2" fmla="val 4068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9" descr="aald"/>
          <p:cNvPicPr/>
          <p:nvPr/>
        </p:nvPicPr>
        <p:blipFill>
          <a:blip r:embed="rId2"/>
          <a:stretch/>
        </p:blipFill>
        <p:spPr>
          <a:xfrm>
            <a:off x="395280" y="260280"/>
            <a:ext cx="2801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6" name="Rectangle 3"/>
          <p:cNvGrpSpPr/>
          <p:nvPr/>
        </p:nvGrpSpPr>
        <p:grpSpPr>
          <a:xfrm>
            <a:off x="4022640" y="146160"/>
            <a:ext cx="4988160" cy="5632200"/>
            <a:chOff x="4022640" y="146160"/>
            <a:chExt cx="4988160" cy="5632200"/>
          </a:xfrm>
        </p:grpSpPr>
        <p:pic>
          <p:nvPicPr>
            <p:cNvPr id="427" name="Rectangle 3" descr="bc9262-001"/>
            <p:cNvPicPr/>
            <p:nvPr/>
          </p:nvPicPr>
          <p:blipFill>
            <a:blip r:embed="rId1"/>
            <a:stretch/>
          </p:blipFill>
          <p:spPr>
            <a:xfrm>
              <a:off x="4022640" y="146160"/>
              <a:ext cx="4988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68800" y="290520"/>
              <a:ext cx="48402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Rectangle 4"/>
          <p:cNvSpPr/>
          <p:nvPr/>
        </p:nvSpPr>
        <p:spPr>
          <a:xfrm>
            <a:off x="144360" y="1171440"/>
            <a:ext cx="37054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86336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0" y="0"/>
            <a:ext cx="3873600" cy="144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В моряки лишь тот годитс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Кто мочалки не боится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Жесткой и кусаче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omic Sans MS"/>
              </a:rPr>
              <a:t>Мыльной, и горячей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"/>
          <p:cNvPicPr/>
          <p:nvPr/>
        </p:nvPicPr>
        <p:blipFill>
          <a:blip r:embed="rId3"/>
          <a:stretch/>
        </p:blipFill>
        <p:spPr>
          <a:xfrm>
            <a:off x="8585280" y="-550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Диаграмма 1" descr=""/>
          <p:cNvPicPr/>
          <p:nvPr/>
        </p:nvPicPr>
        <p:blipFill>
          <a:blip r:embed="rId1"/>
          <a:stretch/>
        </p:blipFill>
        <p:spPr>
          <a:xfrm>
            <a:off x="163440" y="1878120"/>
            <a:ext cx="8888400" cy="48877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"/>
          <p:cNvSpPr/>
          <p:nvPr/>
        </p:nvSpPr>
        <p:spPr>
          <a:xfrm>
            <a:off x="165960" y="858600"/>
            <a:ext cx="85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использования ИКТ на качество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3005640" y="285840"/>
            <a:ext cx="40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3"/>
          <p:cNvCxnSpPr/>
          <p:nvPr/>
        </p:nvCxnSpPr>
        <p:spPr>
          <a:xfrm flipH="1">
            <a:off x="1499760" y="1213200"/>
            <a:ext cx="250128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3999600" y="1214280"/>
            <a:ext cx="1215000" cy="4144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4000680" y="1285920"/>
            <a:ext cx="1000800" cy="20008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52520" y="2214720"/>
            <a:ext cx="60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ТОЧНИК 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936720" y="450072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НАЖ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2727000" y="3357720"/>
            <a:ext cx="50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ГЛЯДНОЕ ПОСОБ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742120" y="5500800"/>
            <a:ext cx="59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ДСТВО  ДИАГНОС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Прямая со стрелкой 26"/>
          <p:cNvCxnSpPr/>
          <p:nvPr/>
        </p:nvCxnSpPr>
        <p:spPr>
          <a:xfrm flipH="1">
            <a:off x="1499760" y="1214280"/>
            <a:ext cx="2501280" cy="3215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Диаграмма 1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77400" y="214200"/>
            <a:ext cx="88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амика изменения познавательной компетенции учащихс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Рисунок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DF549AEAD0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"/>
          <p:cNvSpPr/>
          <p:nvPr/>
        </p:nvSpPr>
        <p:spPr>
          <a:xfrm>
            <a:off x="2028600" y="1863000"/>
            <a:ext cx="523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  <a:ea typeface="Calibri"/>
              </a:rPr>
              <a:t>Учить интересно </a:t>
            </a:r>
            <a:r>
              <a:rPr b="1" i="1" lang="ru-RU" sz="4400" spc="-1" strike="noStrike">
                <a:solidFill>
                  <a:srgbClr val="339933"/>
                </a:solidFill>
                <a:latin typeface="Calibri"/>
                <a:ea typeface="Calibri"/>
              </a:rPr>
              <a:t>–</a:t>
            </a:r>
            <a:r>
              <a:rPr b="1" i="1" lang="ru-RU" sz="4400" spc="-1" strike="noStrike">
                <a:solidFill>
                  <a:srgbClr val="339933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  <a:ea typeface="Calibri"/>
              </a:rPr>
              <a:t>легко и прия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652200" y="571680"/>
            <a:ext cx="183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Горизонтальный свиток 4"/>
          <p:cNvSpPr/>
          <p:nvPr/>
        </p:nvSpPr>
        <p:spPr>
          <a:xfrm>
            <a:off x="428760" y="1643040"/>
            <a:ext cx="3214440" cy="11430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вляют ур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Горизонтальный свиток 5"/>
          <p:cNvSpPr/>
          <p:nvPr/>
        </p:nvSpPr>
        <p:spPr>
          <a:xfrm>
            <a:off x="2786040" y="3000240"/>
            <a:ext cx="3214800" cy="12859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т творчество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Горизонтальный свиток 6"/>
          <p:cNvSpPr/>
          <p:nvPr/>
        </p:nvSpPr>
        <p:spPr>
          <a:xfrm>
            <a:off x="5429160" y="1643040"/>
            <a:ext cx="3214800" cy="121464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гивают вним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Горизонтальный свиток 7"/>
          <p:cNvSpPr/>
          <p:nvPr/>
        </p:nvSpPr>
        <p:spPr>
          <a:xfrm>
            <a:off x="3786120" y="5286240"/>
            <a:ext cx="3214800" cy="121464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компетент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Горизонтальный свиток 8"/>
          <p:cNvSpPr/>
          <p:nvPr/>
        </p:nvSpPr>
        <p:spPr>
          <a:xfrm>
            <a:off x="357120" y="4357800"/>
            <a:ext cx="3357720" cy="121428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т  качество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Буква Т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078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груша"/>
          <p:cNvPicPr/>
          <p:nvPr/>
        </p:nvPicPr>
        <p:blipFill>
          <a:blip r:embed="rId1"/>
          <a:stretch/>
        </p:blipFill>
        <p:spPr>
          <a:xfrm>
            <a:off x="324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груша"/>
          <p:cNvPicPr/>
          <p:nvPr/>
        </p:nvPicPr>
        <p:blipFill>
          <a:blip r:embed="rId2"/>
          <a:stretch/>
        </p:blipFill>
        <p:spPr>
          <a:xfrm>
            <a:off x="1476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груша"/>
          <p:cNvPicPr/>
          <p:nvPr/>
        </p:nvPicPr>
        <p:blipFill>
          <a:blip r:embed="rId3"/>
          <a:stretch/>
        </p:blipFill>
        <p:spPr>
          <a:xfrm>
            <a:off x="262728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груша"/>
          <p:cNvPicPr/>
          <p:nvPr/>
        </p:nvPicPr>
        <p:blipFill>
          <a:blip r:embed="rId4"/>
          <a:stretch/>
        </p:blipFill>
        <p:spPr>
          <a:xfrm>
            <a:off x="3780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груша"/>
          <p:cNvPicPr/>
          <p:nvPr/>
        </p:nvPicPr>
        <p:blipFill>
          <a:blip r:embed="rId5"/>
          <a:stretch/>
        </p:blipFill>
        <p:spPr>
          <a:xfrm>
            <a:off x="4932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груша"/>
          <p:cNvPicPr/>
          <p:nvPr/>
        </p:nvPicPr>
        <p:blipFill>
          <a:blip r:embed="rId6"/>
          <a:stretch/>
        </p:blipFill>
        <p:spPr>
          <a:xfrm>
            <a:off x="6084720" y="0"/>
            <a:ext cx="1059120" cy="1557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9"/>
          <p:cNvSpPr/>
          <p:nvPr/>
        </p:nvSpPr>
        <p:spPr>
          <a:xfrm>
            <a:off x="5651640" y="3573360"/>
            <a:ext cx="3313080" cy="309564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5508720" y="2421000"/>
            <a:ext cx="3635280" cy="1154160"/>
          </a:xfrm>
          <a:prstGeom prst="flowChartExtra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5651640" y="4581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5651640" y="5589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7236000" y="3573360"/>
            <a:ext cx="0" cy="3095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25"/>
          <p:cNvSpPr txBox="1"/>
          <p:nvPr/>
        </p:nvSpPr>
        <p:spPr>
          <a:xfrm>
            <a:off x="622764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1" name="WordArt 26"/>
          <p:cNvSpPr txBox="1"/>
          <p:nvPr/>
        </p:nvSpPr>
        <p:spPr>
          <a:xfrm>
            <a:off x="7020000" y="2637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92" name="WordArt 27"/>
          <p:cNvSpPr txBox="1"/>
          <p:nvPr/>
        </p:nvSpPr>
        <p:spPr>
          <a:xfrm>
            <a:off x="622764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3" name="WordArt 28"/>
          <p:cNvSpPr txBox="1"/>
          <p:nvPr/>
        </p:nvSpPr>
        <p:spPr>
          <a:xfrm>
            <a:off x="630072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4" name="WordArt 29"/>
          <p:cNvSpPr txBox="1"/>
          <p:nvPr/>
        </p:nvSpPr>
        <p:spPr>
          <a:xfrm>
            <a:off x="781200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5" name="WordArt 30"/>
          <p:cNvSpPr txBox="1"/>
          <p:nvPr/>
        </p:nvSpPr>
        <p:spPr>
          <a:xfrm>
            <a:off x="7740720" y="4724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6" name="WordArt 31"/>
          <p:cNvSpPr txBox="1"/>
          <p:nvPr/>
        </p:nvSpPr>
        <p:spPr>
          <a:xfrm>
            <a:off x="7740720" y="371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99075E-007 L -0.64062 0.23936 E">
                                      <p:cBhvr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9.99075E-007 L -0.38073 0.23936 E">
                                      <p:cBhvr>
                                        <p:cTn id="13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99075E-007 L -0.12865 0.23936 E">
                                      <p:cBhvr>
                                        <p:cTn id="14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99075E-007 L 0.13906 0.23936 E">
                                      <p:cBhvr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802E-007 L -0.16545 6.93802E-007 E">
                                      <p:cBhvr>
                                        <p:cTn id="16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93802E-007 L 0.16545 6.93802E-007 E">
                                      <p:cBhvr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99075E-007 L 0.39097 0.23936 E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18125 -4.44444E-006 E">
                                      <p:cBhvr>
                                        <p:cTn id="1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54209E-006 L -0.18107 -4.54209E-006 E">
                                      <p:cBhvr>
                                        <p:cTn id="17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18"/>
          <p:cNvSpPr/>
          <p:nvPr/>
        </p:nvSpPr>
        <p:spPr>
          <a:xfrm>
            <a:off x="571680" y="428760"/>
            <a:ext cx="8143560" cy="48574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страиваемая 20">
            <a:hlinkClick r:id="rId5"/>
          </p:cNvPr>
          <p:cNvSpPr/>
          <p:nvPr/>
        </p:nvSpPr>
        <p:spPr>
          <a:xfrm>
            <a:off x="29289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настраиваемая 21">
            <a:hlinkClick r:id="rId6"/>
          </p:cNvPr>
          <p:cNvSpPr/>
          <p:nvPr/>
        </p:nvSpPr>
        <p:spPr>
          <a:xfrm>
            <a:off x="4143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Управляющая кнопка: настраиваемая 22">
            <a:hlinkClick r:id="rId7"/>
          </p:cNvPr>
          <p:cNvSpPr/>
          <p:nvPr/>
        </p:nvSpPr>
        <p:spPr>
          <a:xfrm>
            <a:off x="53578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настраиваемая 23">
            <a:hlinkClick r:id="rId8"/>
          </p:cNvPr>
          <p:cNvSpPr/>
          <p:nvPr/>
        </p:nvSpPr>
        <p:spPr>
          <a:xfrm>
            <a:off x="6572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настраиваемая 26"/>
          <p:cNvSpPr/>
          <p:nvPr/>
        </p:nvSpPr>
        <p:spPr>
          <a:xfrm>
            <a:off x="4214880" y="4000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6" descr="C:\Documents and Settings\Admin\Рабочий стол\Новая папка (2)\ww-1.gif"/>
          <p:cNvPicPr/>
          <p:nvPr/>
        </p:nvPicPr>
        <p:blipFill>
          <a:blip r:embed="rId9"/>
          <a:stretch/>
        </p:blipFill>
        <p:spPr>
          <a:xfrm>
            <a:off x="3071880" y="571680"/>
            <a:ext cx="3000240" cy="3282840"/>
          </a:xfrm>
          <a:prstGeom prst="rect">
            <a:avLst/>
          </a:prstGeom>
          <a:ln w="0">
            <a:noFill/>
          </a:ln>
        </p:spPr>
      </p:pic>
      <p:sp>
        <p:nvSpPr>
          <p:cNvPr id="108" name="Управляющая кнопка: настраиваемая 19">
            <a:hlinkClick r:id="" action="ppaction://hlinkshowjump?jump=nextslide"/>
            <a:hlinkClick r:id="rId10"/>
          </p:cNvPr>
          <p:cNvSpPr/>
          <p:nvPr/>
        </p:nvSpPr>
        <p:spPr>
          <a:xfrm>
            <a:off x="17146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18"/>
          <p:cNvSpPr/>
          <p:nvPr/>
        </p:nvSpPr>
        <p:spPr>
          <a:xfrm>
            <a:off x="571680" y="428760"/>
            <a:ext cx="8143560" cy="48574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настраиваемая 19"/>
          <p:cNvSpPr/>
          <p:nvPr/>
        </p:nvSpPr>
        <p:spPr>
          <a:xfrm>
            <a:off x="17146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настраиваемая 20"/>
          <p:cNvSpPr/>
          <p:nvPr/>
        </p:nvSpPr>
        <p:spPr>
          <a:xfrm>
            <a:off x="29289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Управляющая кнопка: настраиваемая 21"/>
          <p:cNvSpPr/>
          <p:nvPr/>
        </p:nvSpPr>
        <p:spPr>
          <a:xfrm>
            <a:off x="4143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настраиваемая 22"/>
          <p:cNvSpPr/>
          <p:nvPr/>
        </p:nvSpPr>
        <p:spPr>
          <a:xfrm>
            <a:off x="53578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23"/>
          <p:cNvSpPr/>
          <p:nvPr/>
        </p:nvSpPr>
        <p:spPr>
          <a:xfrm>
            <a:off x="6572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5715000"/>
            <a:ext cx="928800" cy="57168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5085" h="21600">
                <a:moveTo>
                  <a:pt x="0" y="0"/>
                </a:moveTo>
                <a:lnTo>
                  <a:pt x="35085" y="0"/>
                </a:lnTo>
                <a:lnTo>
                  <a:pt x="35085" y="21600"/>
                </a:lnTo>
                <a:lnTo>
                  <a:pt x="0" y="21600"/>
                </a:lnTo>
                <a:close/>
              </a:path>
              <a:path fill="lightenLess" w="35085" h="21600">
                <a:moveTo>
                  <a:pt x="0" y="0"/>
                </a:moveTo>
                <a:lnTo>
                  <a:pt x="35085" y="0"/>
                </a:lnTo>
                <a:lnTo>
                  <a:pt x="33685" y="1400"/>
                </a:lnTo>
                <a:lnTo>
                  <a:pt x="1400" y="1400"/>
                </a:lnTo>
                <a:close/>
              </a:path>
              <a:path fill="darken" w="35085" h="21600">
                <a:moveTo>
                  <a:pt x="35085" y="0"/>
                </a:moveTo>
                <a:lnTo>
                  <a:pt x="35085" y="21600"/>
                </a:lnTo>
                <a:lnTo>
                  <a:pt x="33685" y="20200"/>
                </a:lnTo>
                <a:lnTo>
                  <a:pt x="33685" y="1400"/>
                </a:lnTo>
                <a:close/>
              </a:path>
              <a:path fill="darkenLess" w="35085" h="21600">
                <a:moveTo>
                  <a:pt x="35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5" y="20200"/>
                </a:lnTo>
                <a:close/>
              </a:path>
              <a:path fill="lighten" w="35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5" h="21600">
                <a:moveTo>
                  <a:pt x="10536" y="3794"/>
                </a:moveTo>
                <a:lnTo>
                  <a:pt x="24549" y="10800"/>
                </a:lnTo>
                <a:lnTo>
                  <a:pt x="10536" y="178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настраиваемая 14"/>
          <p:cNvSpPr/>
          <p:nvPr/>
        </p:nvSpPr>
        <p:spPr>
          <a:xfrm>
            <a:off x="4214880" y="40006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6" descr="C:\Documents and Settings\Admin\Рабочий стол\Новая папка (2)\ww-1.gif"/>
          <p:cNvPicPr/>
          <p:nvPr/>
        </p:nvPicPr>
        <p:blipFill>
          <a:blip r:embed="rId5"/>
          <a:stretch/>
        </p:blipFill>
        <p:spPr>
          <a:xfrm>
            <a:off x="3071880" y="571680"/>
            <a:ext cx="300024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8"/>
          <p:cNvSpPr/>
          <p:nvPr/>
        </p:nvSpPr>
        <p:spPr>
          <a:xfrm>
            <a:off x="571680" y="428760"/>
            <a:ext cx="8143560" cy="48574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6ac6efb25e0a35d160b484086b39328b"/>
          <p:cNvPicPr/>
          <p:nvPr/>
        </p:nvPicPr>
        <p:blipFill>
          <a:blip r:embed="rId1"/>
          <a:stretch/>
        </p:blipFill>
        <p:spPr>
          <a:xfrm>
            <a:off x="1214280" y="42148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6ac6efb25e0a35d160b484086b39328b"/>
          <p:cNvPicPr/>
          <p:nvPr/>
        </p:nvPicPr>
        <p:blipFill>
          <a:blip r:embed="rId2"/>
          <a:stretch/>
        </p:blipFill>
        <p:spPr>
          <a:xfrm>
            <a:off x="7429680" y="421488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6ac6efb25e0a35d160b484086b39328b"/>
          <p:cNvPicPr/>
          <p:nvPr/>
        </p:nvPicPr>
        <p:blipFill>
          <a:blip r:embed="rId3"/>
          <a:stretch/>
        </p:blipFill>
        <p:spPr>
          <a:xfrm>
            <a:off x="7358040" y="9288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6ac6efb25e0a35d160b484086b39328b"/>
          <p:cNvPicPr/>
          <p:nvPr/>
        </p:nvPicPr>
        <p:blipFill>
          <a:blip r:embed="rId4"/>
          <a:stretch/>
        </p:blipFill>
        <p:spPr>
          <a:xfrm>
            <a:off x="1143000" y="928800"/>
            <a:ext cx="584280" cy="58392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настраиваемая 19"/>
          <p:cNvSpPr/>
          <p:nvPr/>
        </p:nvSpPr>
        <p:spPr>
          <a:xfrm>
            <a:off x="17146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Управляющая кнопка: настраиваемая 20"/>
          <p:cNvSpPr/>
          <p:nvPr/>
        </p:nvSpPr>
        <p:spPr>
          <a:xfrm>
            <a:off x="29289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Управляющая кнопка: настраиваемая 21"/>
          <p:cNvSpPr/>
          <p:nvPr/>
        </p:nvSpPr>
        <p:spPr>
          <a:xfrm>
            <a:off x="4143240" y="55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настраиваемая 22"/>
          <p:cNvSpPr/>
          <p:nvPr/>
        </p:nvSpPr>
        <p:spPr>
          <a:xfrm>
            <a:off x="535788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Управляющая кнопка: настраиваемая 23"/>
          <p:cNvSpPr/>
          <p:nvPr/>
        </p:nvSpPr>
        <p:spPr>
          <a:xfrm>
            <a:off x="6572160" y="5500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настраиваемая 26"/>
          <p:cNvSpPr/>
          <p:nvPr/>
        </p:nvSpPr>
        <p:spPr>
          <a:xfrm>
            <a:off x="4143240" y="39290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2" descr="C:\Documents and Settings\Admin\Рабочий стол\Новая папка (2)\Безимени-2.gif"/>
          <p:cNvPicPr/>
          <p:nvPr/>
        </p:nvPicPr>
        <p:blipFill>
          <a:blip r:embed="rId5"/>
          <a:stretch/>
        </p:blipFill>
        <p:spPr>
          <a:xfrm>
            <a:off x="1143000" y="185724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:\Documents and Settings\Admin\Рабочий стол\Новая папка (2)\Безимени-2.gif"/>
          <p:cNvPicPr/>
          <p:nvPr/>
        </p:nvPicPr>
        <p:blipFill>
          <a:blip r:embed="rId6"/>
          <a:stretch/>
        </p:blipFill>
        <p:spPr>
          <a:xfrm>
            <a:off x="2928960" y="92880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C:\Documents and Settings\Admin\Рабочий стол\Новая папка (2)\Безимени-2.gif"/>
          <p:cNvPicPr/>
          <p:nvPr/>
        </p:nvPicPr>
        <p:blipFill>
          <a:blip r:embed="rId7"/>
          <a:stretch/>
        </p:blipFill>
        <p:spPr>
          <a:xfrm>
            <a:off x="4786200" y="92880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C:\Documents and Settings\Admin\Рабочий стол\Новая папка (2)\Безимени-2.gif"/>
          <p:cNvPicPr/>
          <p:nvPr/>
        </p:nvPicPr>
        <p:blipFill>
          <a:blip r:embed="rId8"/>
          <a:stretch/>
        </p:blipFill>
        <p:spPr>
          <a:xfrm>
            <a:off x="6715080" y="1928880"/>
            <a:ext cx="16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6:47:55Z</dcterms:created>
  <dc:creator>Вадька</dc:creator>
  <dc:description/>
  <dc:language>en-US</dc:language>
  <cp:lastModifiedBy>Metod</cp:lastModifiedBy>
  <dcterms:modified xsi:type="dcterms:W3CDTF">2011-09-28T07:34:14Z</dcterms:modified>
  <cp:revision>24</cp:revision>
  <dc:subject/>
  <dc:title>Слайд 1</dc:title>
</cp:coreProperties>
</file>