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3809-85C0-45A2-8079-08D42D51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E3E9-AE15-4FC6-BCA2-9DE9911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CA63-D1A3-44D9-8B28-BA72E39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F8A6-791B-44B0-BFFA-5F55D67C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C1A1-0DA3-4A99-B065-A4FC3457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3310-2B87-45AB-A243-C62EAA0F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F53B-252F-4A07-898D-2855FE0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316-5E3E-4192-9325-F92D83E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8718-9186-43E4-9E65-0AC6E38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218-5694-49A5-9AD1-4EC95129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0F53-3312-483D-AF2D-025DAF4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9E85-B20B-4F22-93E1-382B1C77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8BAB-AA38-4BDD-9A3B-8183905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C0CC-570F-4C31-A44E-8C3C1BD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4A22-0C07-447B-B272-651B243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4B8-6324-4C64-BD18-4794D915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6C8C-759E-4741-95A7-DB5E1BDF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9693-B73B-4291-B42D-1E367EAE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CAAC-6428-4911-97EC-A6EB0077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30A4-8BEC-4BCA-BCDE-ED97AFB7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A5DD-A89D-4EFE-AFE9-6FCCDBE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0FD6-CFB9-4DD2-ACE0-C5051319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D3B4-EB8E-41D6-B03E-D676320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613A-6FEA-4046-A421-8AF58607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6FAB-A9D3-4951-86C1-1C79A86CE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E1D4-D391-464C-856F-E64B91F2C0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atm.ru/triz/scoolsss/odessa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8595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74560" y="1285920"/>
            <a:ext cx="8069400" cy="57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пользование ТРИЗ-педагогики в работе с детьми дошкольного и младшего школьного возраст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озлова И. И., старший преподаватель кафедры психологии и педагогики КРИППО </a:t>
            </a:r>
            <a:br>
              <a:rPr sz="44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ТВ  (развитие творческого воображения) - направлено на управление воображением с целью создания новых образов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ТРТЛ (теория развития творческой личности) - направлена на формирование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человеке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ктивной творчес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зиции, предусматривающе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становку Достойн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успешного продвижения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стоящи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омент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А ТРИЗ входит 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5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Общественных Организаци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ТРИЗ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из Украины, России, Белоруссии, Латвии, Эстонии, США, Перу, Франции, Израиля, Кореи, а также Европейская Ассоциация ТРИЗ.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ринципы,  лежащие в основе ТРИЗ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нцип  объективности  законов развития  систем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нцип  противореч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нцип  конкретн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РИЗовское  мышление  это: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истемное мышл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иалектическое мышл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ункциональное 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огическое 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Цель  ТРИЗ-педагогики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-  формирование сильного мышления и воспитание творческой личности, подготовленной к решению сложных проблем в различных областях деятельности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настоящее время в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Украинской Лаборатории ТРИЗ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-педагогик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(г. Одесса, М. Меерович, Л. Шрагина)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 основе ТРИЗ разработана структура "Опережающей педагогики"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Шесть качеств  Творческой личност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Достойная цель жиз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Умение строить планы и програм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Высокая работоспособнос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Хорошая техника решения зада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Умение держать удар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Результативнос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300880" cy="1857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286480" cy="196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428760" y="4071960"/>
            <a:ext cx="8286480" cy="2214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357720" y="642960"/>
            <a:ext cx="2714400" cy="714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фликтующая па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3357720" y="2000160"/>
            <a:ext cx="2714400" cy="7858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деальное конечное реш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3357720" y="3500280"/>
            <a:ext cx="2714400" cy="7858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сур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6786720" y="4286160"/>
            <a:ext cx="1500120" cy="9288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П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3357720" y="5000760"/>
            <a:ext cx="2643120" cy="8571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КР+ ресур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642960" y="642960"/>
            <a:ext cx="2000160" cy="714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ходная ситу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33" name="Прямая со стрелкой 13"/>
          <p:cNvCxnSpPr/>
          <p:nvPr/>
        </p:nvCxnSpPr>
        <p:spPr>
          <a:xfrm>
            <a:off x="2714400" y="999720"/>
            <a:ext cx="500760" cy="2520"/>
          </a:xfrm>
          <a:prstGeom prst="straightConnector1">
            <a:avLst/>
          </a:prstGeom>
          <a:ln w="5724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34" name="Прямая со стрелкой 15"/>
          <p:cNvCxnSpPr/>
          <p:nvPr/>
        </p:nvCxnSpPr>
        <p:spPr>
          <a:xfrm flipH="1">
            <a:off x="4642560" y="1499760"/>
            <a:ext cx="2520" cy="429480"/>
          </a:xfrm>
          <a:prstGeom prst="straightConnector1">
            <a:avLst/>
          </a:prstGeom>
          <a:ln w="5724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35" name="Прямая со стрелкой 17"/>
          <p:cNvCxnSpPr/>
          <p:nvPr/>
        </p:nvCxnSpPr>
        <p:spPr>
          <a:xfrm>
            <a:off x="6000480" y="3928680"/>
            <a:ext cx="572040" cy="361080"/>
          </a:xfrm>
          <a:prstGeom prst="straightConnector1">
            <a:avLst/>
          </a:prstGeom>
          <a:ln w="5724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36" name="Прямая со стрелкой 20"/>
          <p:cNvCxnSpPr/>
          <p:nvPr/>
        </p:nvCxnSpPr>
        <p:spPr>
          <a:xfrm flipV="1">
            <a:off x="5929200" y="5071680"/>
            <a:ext cx="572400" cy="289440"/>
          </a:xfrm>
          <a:prstGeom prst="straightConnector1">
            <a:avLst/>
          </a:prstGeom>
          <a:ln w="5724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37" name="Прямая со стрелкой 22"/>
          <p:cNvCxnSpPr/>
          <p:nvPr/>
        </p:nvCxnSpPr>
        <p:spPr>
          <a:xfrm flipH="1">
            <a:off x="4714560" y="2714760"/>
            <a:ext cx="2160" cy="714960"/>
          </a:xfrm>
          <a:prstGeom prst="straightConnector1">
            <a:avLst/>
          </a:prstGeom>
          <a:ln w="5724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38" name="Прямая со стрелкой 24"/>
          <p:cNvCxnSpPr/>
          <p:nvPr/>
        </p:nvCxnSpPr>
        <p:spPr>
          <a:xfrm flipH="1">
            <a:off x="4714200" y="4357800"/>
            <a:ext cx="1080" cy="575280"/>
          </a:xfrm>
          <a:prstGeom prst="straightConnector1">
            <a:avLst/>
          </a:prstGeom>
          <a:ln w="57240">
            <a:solidFill>
              <a:srgbClr val="0098cc"/>
            </a:solidFill>
            <a:miter/>
            <a:tailEnd len="med" type="arrow" w="med"/>
          </a:ln>
        </p:spPr>
      </p:cxn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тиворечия современного образования (А. Гин)</a:t>
            </a:r>
            <a:br>
              <a:rPr sz="4000"/>
            </a:br>
            <a:br>
              <a:rPr sz="4000"/>
            </a:br>
            <a:br>
              <a:rPr sz="32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Мы должны научить детей жить в мире, которого не знаем сами. </a:t>
            </a:r>
            <a:br>
              <a:rPr sz="4000"/>
            </a:br>
            <a:br>
              <a:rPr sz="32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3143160" y="857160"/>
            <a:ext cx="2786040" cy="8575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ес, поля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3143160" y="2500200"/>
            <a:ext cx="2786040" cy="10000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ем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714240" y="4143240"/>
            <a:ext cx="1571760" cy="7858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ыш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Блок-схема: процесс 6"/>
          <p:cNvSpPr/>
          <p:nvPr/>
        </p:nvSpPr>
        <p:spPr>
          <a:xfrm>
            <a:off x="2857680" y="4143240"/>
            <a:ext cx="1643040" cy="785880"/>
          </a:xfrm>
          <a:prstGeom prst="flowChartProcess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рда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Блок-схема: процесс 7"/>
          <p:cNvSpPr/>
          <p:nvPr/>
        </p:nvSpPr>
        <p:spPr>
          <a:xfrm>
            <a:off x="4857840" y="4143240"/>
            <a:ext cx="1571400" cy="785880"/>
          </a:xfrm>
          <a:prstGeom prst="flowChartProcess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нат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Блок-схема: процесс 8"/>
          <p:cNvSpPr/>
          <p:nvPr/>
        </p:nvSpPr>
        <p:spPr>
          <a:xfrm>
            <a:off x="6858000" y="4143240"/>
            <a:ext cx="1571760" cy="785880"/>
          </a:xfrm>
          <a:prstGeom prst="flowChartProcess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ва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Прямая соединительная линия 10"/>
          <p:cNvSpPr/>
          <p:nvPr/>
        </p:nvSpPr>
        <p:spPr>
          <a:xfrm flipH="1">
            <a:off x="4535640" y="1714680"/>
            <a:ext cx="1440" cy="785520"/>
          </a:xfrm>
          <a:prstGeom prst="line">
            <a:avLst/>
          </a:prstGeom>
          <a:ln w="5724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Прямая соединительная линия 12"/>
          <p:cNvSpPr/>
          <p:nvPr/>
        </p:nvSpPr>
        <p:spPr>
          <a:xfrm>
            <a:off x="1500120" y="3786120"/>
            <a:ext cx="6143760" cy="1800"/>
          </a:xfrm>
          <a:prstGeom prst="line">
            <a:avLst/>
          </a:prstGeom>
          <a:ln w="5724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 flipH="1">
            <a:off x="1498680" y="3787920"/>
            <a:ext cx="1440" cy="357120"/>
          </a:xfrm>
          <a:prstGeom prst="line">
            <a:avLst/>
          </a:prstGeom>
          <a:ln w="5724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Прямая соединительная линия 16"/>
          <p:cNvSpPr/>
          <p:nvPr/>
        </p:nvSpPr>
        <p:spPr>
          <a:xfrm flipV="1">
            <a:off x="3643200" y="3714840"/>
            <a:ext cx="0" cy="428400"/>
          </a:xfrm>
          <a:prstGeom prst="line">
            <a:avLst/>
          </a:prstGeom>
          <a:ln w="5724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Прямая соединительная линия 18"/>
          <p:cNvSpPr/>
          <p:nvPr/>
        </p:nvSpPr>
        <p:spPr>
          <a:xfrm flipV="1">
            <a:off x="5643720" y="3787920"/>
            <a:ext cx="1440" cy="357120"/>
          </a:xfrm>
          <a:prstGeom prst="line">
            <a:avLst/>
          </a:prstGeom>
          <a:ln w="5724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 flipV="1">
            <a:off x="7643880" y="3787920"/>
            <a:ext cx="1440" cy="357120"/>
          </a:xfrm>
          <a:prstGeom prst="line">
            <a:avLst/>
          </a:prstGeom>
          <a:ln w="5724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Прямая соединительная линия 24"/>
          <p:cNvSpPr/>
          <p:nvPr/>
        </p:nvSpPr>
        <p:spPr>
          <a:xfrm>
            <a:off x="4535640" y="3500280"/>
            <a:ext cx="0" cy="357480"/>
          </a:xfrm>
          <a:prstGeom prst="line">
            <a:avLst/>
          </a:prstGeom>
          <a:ln w="5724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1071720" y="185724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143000" y="92880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ТРИЗ  сегодня  — это международное общественное движение, направленное на то, чтобы сделать  эффективные технологии  творчества  неотъемлемой частью  мировой  культур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2286000" y="1785960"/>
            <a:ext cx="4572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айты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МА ТРИЗ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Times New Roman"/>
                <a:ea typeface="Calibri"/>
              </a:rPr>
              <a:t>www.trizway.c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Times New Roman"/>
                <a:ea typeface="Calibri"/>
              </a:rPr>
              <a:t>www.matriz.r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Times New Roman"/>
                <a:ea typeface="Calibri"/>
              </a:rPr>
              <a:t>Почтовый адрес Киселева А. В., Пчелкиной К. Л. </a:t>
            </a:r>
            <a:r>
              <a:rPr b="1" lang="en-US" sz="3200" spc="-1" strike="noStrike">
                <a:solidFill>
                  <a:srgbClr val="000514"/>
                </a:solidFill>
                <a:latin typeface="Times New Roman"/>
                <a:ea typeface="Calibri"/>
              </a:rPr>
              <a:t>krtriz@mail</a:t>
            </a:r>
            <a:r>
              <a:rPr b="1" lang="ru-RU" sz="3200" spc="-1" strike="noStrike">
                <a:solidFill>
                  <a:srgbClr val="000514"/>
                </a:solidFill>
                <a:latin typeface="Times New Roman"/>
                <a:ea typeface="Calibri"/>
              </a:rPr>
              <a:t>.</a:t>
            </a:r>
            <a:r>
              <a:rPr b="1" lang="en-US" sz="3200" spc="-1" strike="noStrike">
                <a:solidFill>
                  <a:srgbClr val="000514"/>
                </a:solidFill>
                <a:latin typeface="Times New Roman"/>
                <a:ea typeface="Calibri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бучение должно быть предметным, так как оно копирует, повторяет организационную структуру науки. Но предметное обучение мешает цельности восприятия мира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бразование должно быть дорогим, чтобы быть качественным, и должно быть дешевым, чтобы быть доступным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бразование должно быть добровольным, ибо в этом случае оно максимально эффективно, и образование должно быть обязательным, ибо некомпетентность стала социально опасной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99680" y="714240"/>
            <a:ext cx="83581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бразование — это всегда вложение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будущее. А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ложение в будущее требует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граничений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стоящем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57120" y="2000160"/>
            <a:ext cx="3786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сновоположник ТРИЗ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- российский ученый-практик, писатель-фантаст, педагог Генрих Саулович Альтшуллер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1926-1998 гг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C:\Documents and Settings\Admin\Рабочий стол\clip_image002.jpg"/>
          <p:cNvPicPr/>
          <p:nvPr/>
        </p:nvPicPr>
        <p:blipFill>
          <a:blip r:embed="rId1"/>
          <a:stretch/>
        </p:blipFill>
        <p:spPr>
          <a:xfrm>
            <a:off x="4929120" y="785880"/>
            <a:ext cx="3643560" cy="50720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РИЗ сегодня - это комплекс, состоящий из  взаимосвязанных направлений: ТРИЗ, РТВ, ТРТЛ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ТРИЗ  (классическая ТРИЗ) - направлена на формирование умения ставить и успешно решать творческие задачи при помощи инструментов ТРИЗ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8:29:54Z</dcterms:created>
  <dc:creator>User</dc:creator>
  <dc:description/>
  <dc:language>en-US</dc:language>
  <cp:lastModifiedBy>Metod</cp:lastModifiedBy>
  <dcterms:modified xsi:type="dcterms:W3CDTF">2010-11-16T07:10:16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