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27.jpeg" ContentType="image/jpeg"/>
  <Override PartName="/ppt/media/image13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14.wmf" ContentType="image/x-wmf"/>
  <Override PartName="/ppt/media/image29.png" ContentType="image/png"/>
  <Override PartName="/ppt/media/image1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DFBA-BE63-49BA-8961-D6DC0D208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AB0E-B2DD-4A0F-B1EF-E0DE857C98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8FA-7BDD-4272-ADD1-51D99662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0AA-2BF1-4D3E-BA6D-89DDAE92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B4A-99D9-4163-A01E-37DDC391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CB3-B46E-43C5-A12B-DA564598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00B-67BC-48D4-A63D-4B0E58F4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7B5-ADB8-4689-8E4D-9E68EF94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B3F-6BC7-4317-B610-8F6F749E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456-4A34-418F-811C-F49AF037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17C-6416-4D2E-9118-BD179311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6C0-AB4D-4C65-93CF-D522E187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FDE-957F-45A6-BCB7-971A4555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FBA-8CE0-4B26-BE9A-0304108C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8f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B0DE-8A21-43EA-B044-3391DFC3D3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0" y="142560"/>
            <a:ext cx="687564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 ДОПОЛНИТЕЛЬНОГО ПРОФЕССИОНАЛЬНОГО ОБРАЗОВАНИЯ РЕСПУБЛИКИ КРЫМ  «КРЫМСКИЙ РЕСПУБЛИКАНСКИЙ ИНСТИТУТ ПОСТДИПЛОМНОГО ПЕДАГОГИЧЕСКОГО ОБРАЗОВАНИЯ»</a:t>
            </a:r>
            <a:br>
              <a:rPr sz="1800"/>
            </a:br>
            <a:br>
              <a:rPr sz="34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43280" y="5929200"/>
            <a:ext cx="45007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ебецкая С.Г.,  методист  высшей категории  ЦВРОЗ, ГБОУ ДПО РК КРИПП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42920" y="4221000"/>
            <a:ext cx="8786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Формирование  представления  о создании внутришкольной системы повышения психолого-педагогической компетентности  педагогических  раб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6263" t="0" r="4526" b="0"/>
          <a:stretch/>
        </p:blipFill>
        <p:spPr>
          <a:xfrm>
            <a:off x="179280" y="260280"/>
            <a:ext cx="2052720" cy="1440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7"/>
          <p:cNvSpPr/>
          <p:nvPr/>
        </p:nvSpPr>
        <p:spPr>
          <a:xfrm>
            <a:off x="826920" y="2781360"/>
            <a:ext cx="74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звитие   психолого-педагогической компетентности педагогов  как основа повышения эффективности и качества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3640" y="260280"/>
            <a:ext cx="8569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332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 о структуре компетентности, С.В. Петрушин рассматривает как неотъемлемые ее составляющие когнитивные (ориентированность, психологические знания и перцептивные способности), исполнительские (умения и навыки) и эмоциональные (социальные установки, опыт, система отношений личности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332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332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выявленной в ходе предпринятого исследования структуры профессионально-педагогической компетентности, основными признаками ее сформированности, можно считать следующ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332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х профессиональных знаний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ое содержание знаний зависит от  специальности, а их уровень и объем – от категории: чем выше уровень квалификации, тем обширнее и выше компетентность учителя, и наоборот, чем выше уровень компетентности, тем более эффективна деятельность преподавателя в своей профессиональной обл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332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х знаний о сущ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го труда, об особенностях данной  профессии, о закономерностях в области общения, о психологическом развитии учащихся, возрастной и  социальной психолог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332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аден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ми умениями ка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едагога грамотно осуществлять  воздействие на учащихся с целью достижения результ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332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214200"/>
            <a:ext cx="86868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зовании Европейского сообщества особое значение придается пяти ключевым компетентностя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ьная – способность взять на себя ответственность, совместно вырабатывать решение и участвовать в его реализации, проявление  сопряженности личных интересов с потребностями организации и обще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муникативная – владение технологиями и формами устного и письменного общения на разных языках, включая компьютерное программирова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циально-информационная – владение информационными технологиями, включая критическое отношение к информациям, распространяемым С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гнитивная – готовность к постоянному повышению образовательного уровня, способность самостоятельно приобретать новые знания и умения, способность к саморазвит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ециальная - подготовленность к самостоятельному выполнению профессиональных действий, оценке результатов своего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специфика профессиональной компетентности педагогов определяется особенностями труда, его отличием от других видов творческого, интеллектуального труда. Можно выделить несколько таких отлич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еративный и систематический характер педагогического труда требует, по словам А.С. Макаренко, немедленного анализа и немедленного действия. В течение, например, одного урока перед учителем может возникать значительное количество проблемных ситуаций, и в решении каждой из них схема творческого процесса сохраняется, хотя и в сжатом, свернутом ви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граниченные возможности надежного выбора лучшего варианта решения проблемной ситу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дагогический труд осуществляется постоянно, изо дня в день, но результаты его сказываются не сразу, проявляется свойство «отдаленной» результатив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ущественной профессиональной особенностью труда педагога является умение прогнозировать дальнейшие возможности развития качеств воспитуемых по первичным результатам воздейств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ждый педагог трудится индивидуально, но одновременно результаты обучения и воспитания складываются из коллективных усилий разных педагогов. Нередко отсутствие единства требований в педагогическом коллективе может существенно снизить эффективность труда отдельных педагог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зультативный педагогический процесс определяется целостностью усилий каждого из его участников (учителей, управленцев, учащихся, их родителей, общественности). Высокая профессиональная компетентность конкретного учителя может при отсутствии соответствующих условий (прежде всего, - в своем педагогическом коллективе, шире - в коллективе своего образовательного учреждения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Труд педагога внутренне противоречив, в нем сочетаются специализированные знания, умения, навыки (по отдельным дисциплинам, отраслям науки и производства) и общепрофессиональные - психолого-педагогические знания, умения, навыки (хотя и здесь проявляется значительная дифференциация - в зависимости от половозрастных и иных особенностей обучающихся: от детей, подростков, молодых людей до обучения взрослых, от обучения «нормальных учащихся» до работы с девиантной молодежью). Кроме всего прочего, такая внутренняя разнородность педагогической профессии существенно затрудняет сопоставление уровня профессиональной компетентности для разных групп педагогов, особенно требуя дифференцированного подх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 педагога формируется и совершенствуется только в процессе деятельности. Все, что связано с компетенциями, связано с опытом и деятельностью субъекта, вне ситуации и деятельности компетенции не проявляю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ые педагогические действия формируют основные умения, которые реализуются в педагогической практике. В данном случае речь идет о познавательных, проектировочных, конструктивных, организаторских и коммуникативных уме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ая система подготовки педагогических кадров нуждается в содержательной модернизации, необходимость которой обусловливается следующими факторам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ые изменения социально-экономической ситуации в стра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ерсификация системы школьного образ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задач школы и роли учителя(ориентация на социализацию школьников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ние рисков образовательной среды и ухудшение здоровья школьник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зация общества, вследствие чего учитель перестает быть единственным источником информации для школьника, а неуправляемые информационные потоки оказывают негативное влияние на психику и сознание де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ация учащихся, происходящая внутри школы и вне её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24000" y="62028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325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мониторинга, осуществленного специалистами психологической службы образования РФ, выявляются новые требования к современному учителю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325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современными технологиями развивающего образования, определяющими новые параметры школы XXI 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325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 антропоцентрического подхода к процессу обучения и воспитания детей и молодежи, ориентированного на развитие креативной лич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325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«видеть» многообразие учащихся, учитывать в учебно-воспитательном процессе возрастные индивидуальные и личностные особенности различных континг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325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(одаренных, девиантных и делинквентных детей, с ограниченными возможностями здоровья, с задержками в развитии и др.) и реагировать на их потреб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325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улучшать среду обучения, проектировать психологически комфортную образовательную сре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325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менять здоровьесберегающие технолог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325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сопровождать профессиональную карьеру молодого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325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предусматривают определенные требования к уровню психолого-педагогической компетентности учител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системой знаний об истории и современных тенденциях развития психолого-педагогических концеп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системой знаний о человеке как субъекте образовательного процесса, его возрастных, индивидуальных особенностях, социальных факторов развит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системой знаний о закономерностях психического развития, факторах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ющих личностному росту, направлениях саморазвития и самовоспитания лич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особенностей детей с отклонениями в развит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системой знаний о закономерностях общения и способами управления индивидом и группами, умениями педагогического общ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прав и свободы учащихся, умение оказывать социальную помощь и поддержку учащим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основными психолого-педагогическими приемами применения компьютерной техники в образовательном процесс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умениями психолого-педагогической диагност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умениями проектирования, реализации,  оценивания и коррекции 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8548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содержательными компонентами специально- профессиональной компетентности, с точки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ющего государственного стандарта следует счит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исторических этапов развития данной науки путем становления научных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фундаментальных принципов и идей, лежащих в основе данной дисципл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фундаментальных экспериментов, лежащих в основе становления данной области научных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актуальных вопросов и проблем современной науки и новейших откры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прикладных вопросов современной науки в данной дисципл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системой знаний о сфере образования, сущности, содержании и структуре образовательны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системой знаний о закономерностях целостного педагогического процесса, современных психолог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технолог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технологиями развивающего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рганизовывать внеучебную  деятельность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рганизовывать учебный процесс в  различных социо-культурных услов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основами разработки учебно-программной документации и умение использовать их для фор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я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менять на практике современные методы, приемы, формы и средства обучения по предмету, анализировать и обобщать передовой педагогический опы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системы теоретических и экспериментальных методов, используемых при построении данной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льно-психологическая, социально-психологическая и аутопсихологическая  компетентности  рассматриваются государственным образовательным стандартом высшего профессионального образования как единая психолого-педагогическая компетентность учителя, которая включает в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ый уровень знаний и понимание педагогом психологических особенностей  каждого учащегося, его способностей, достоинств и недостатков, особенностей  усвоения им учеб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эффективному общению и  взаимодействию, осведомленность в области  процессов общ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того, в какой мере  процессы общения способствуют или препятствуют достижению поставленных педагогически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сильных и слабых сторон своей  личности и способов профессионального самосовершенств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способов как и что нужно сделать в отношении повышения  своей профессиональной компетен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928880" y="268200"/>
            <a:ext cx="58579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214280" y="396720"/>
            <a:ext cx="6715440" cy="1256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1214280" y="1643040"/>
            <a:ext cx="665820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1143000" y="2360520"/>
            <a:ext cx="678672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амое страшное – сказать: мы уже все постиг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ердце ученика знает, что горит, что потухл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Чтобы согреть – надо быть теплы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чтобы возжечь интерес – надо гореть само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Древняя мудр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76435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00040" y="2428920"/>
            <a:ext cx="8296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0560" y="476280"/>
            <a:ext cx="84358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учителей, низкий уровень психолого-педагогической подготовки современного педагога выражается в следующем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ет организовать урок в деятельностной парадигм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ет организовать работу в группа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нает типологии детских проблем(детства в целом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ет работать с различными категориями де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ладеет общей психологической культурой общ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меет работать с другими участниками образовательного процесса(учитель, директор, психолог, руководитель) и т.д.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нает психологии, психофизиологии и физиологии(особенно детей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ладеет здоровьесберегающими технолог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 же время, по мнению родителей, на качество образовательной среды в школе в значитель-ной степени влияют другие фактор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ые перегрузки(85%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ные ситуации(65%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ребенка пока он в школе(61%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введения и частые изменения в образовательных программах(59%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образования(48%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для родителей возможности влиять на процессы школьной жизни(35%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908000" y="139680"/>
            <a:ext cx="547236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определить направления ее развития, необходимо иметь четкое представление о ее составе. В представлении исследователей о структурных компонентах профессиональной компетентности учителя имеется ряд отличий. Так, одни авторы подразумевают под ними иерархию знаний и умений (А.Г. Казакова, Л.В. Комаровская, Н.В. Кузьмина), другие (Ю.В. Варданян, А.К. Маркова, Н.В. Матяш, Е.М. Павлюченков) - ряд специфических способностей, которые предполагают профессиональное мастерст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ш взгляд, наиболее полно специфика профессиональной компетентности педагога отражается при рассмотрении ее с позиции следующих трех компонент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ятельностного компонента (знания, умения, навыки самостоятельного осуществления деятельности, мотивация деятельности, карьерный рост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чностного компонента (знания, умения и навыки, принципы развития личности учащегося, умение сопереживать, стремление к саморазвитию, умение контролировать свои эмоциональные состояни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циально-коммуникативного компонента (знания, умения и навыки осуществления педагогического общения, оптимизм, стремление к согласию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900000" y="271440"/>
          <a:ext cx="7496280" cy="67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1440"/>
                    <a:ext cx="7496280" cy="67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900000" y="260280"/>
          <a:ext cx="7496280" cy="675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60280"/>
                    <a:ext cx="7496280" cy="67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878040" y="765000"/>
            <a:ext cx="7439040" cy="575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74390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88880" y="1052640"/>
            <a:ext cx="8201160" cy="511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20080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95280" y="222120"/>
            <a:ext cx="835344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14200" y="1999800"/>
            <a:ext cx="862488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Главной сегодняшней задачей образования взрослых является производство компетентных  людей – людей, которые  были бы способны применять свои знания в изменяющихся условиях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М. Ноул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8103-0B96-4E5A-B0D2-512EF71F7F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5530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21044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2"/>
          <p:cNvGraphicFramePr/>
          <p:nvPr/>
        </p:nvGraphicFramePr>
        <p:xfrm>
          <a:off x="755640" y="644400"/>
          <a:ext cx="7488360" cy="59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44400"/>
                    <a:ext cx="748836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57280" y="471600"/>
            <a:ext cx="8047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549000"/>
            <a:ext cx="8362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325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развитие педагогов и педагогического коллектива в целом – сложный, длительный и противоречивый процесс, на который оказывают влияние различные факторы. Ведущим противоречием, детерминирующим этот процесс, является несоответствие актуального уровня профессионального развития педагога и его опыта системе современных требований к педагогической деятельности. В данном случае можно выделить две группы детермина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9280" y="260280"/>
            <a:ext cx="84362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бъективные факто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сточником профессионального становления и развития педагога в педагогическом коллективе является его внутренняя активность, порождаемая противоречия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жду необходимостью предоставления всем обучающимся  качественного  образования  и невозможностью реализовать это требование, когда деятельность педагогов, пусть даже высококвалифицированных, в педагогическом коллективе образовательной организации разобщена и не систем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жду растущими требованиями к педагогической деятельности как творческо-преобразующей и рутинным, жестко регламентированным характером повседневной деятельности в школе, тормозящим проявление твор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едущими мотивами служа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ральное и материальное стимулирование профессионального роста членов коллекти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ое профессиональное самоутвержд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выраженной потребности в совершенствовании способов выполнения профессиональной деятельности в связи с новизной реализуемых образовательных задач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новационный характер педагогической деятельности, требующей взаимодействия педагог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удовлетворенность педагогов социальным и профессионально-образовательным статусом в коллектив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женная способность педагогического коллектива и каждого учителя в отдельности к саморазвитию и самопозна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ые фактор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сточниками развития выступают противоречия в отношениях педагогов в среде педагогического коллекти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жду возрастающими,  в связи с переходом на новую модель образования, требованиями к уровню профессионализма педагогических работников и отсутствием образцов успешного педагогического опыта, признанного в коллектив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едущими мотивами являю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ъективная и адекватная конкретной ситуации внешняя и внутренняя оценка успешности профессиона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новых возможностей системы дополнительного профессионального образования – ее многоуровневость, вариативность, доступ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субъективных и объективных условий, способных придать позитивную динамику рассматриваемому процессу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ым условия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я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личие у всего коллектива и у каждого педагога выраженной потребности и устойчивых мотивов совершенствования способов выполнения профессиональной деятельности (внедрения инноваций), стремления к профессиональному самосовершенствованию и самореализ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имание и принятие всеми членами коллектива целей и задач совместной деятельности в рамках компетентностного подхода в образован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4920" y="476280"/>
            <a:ext cx="8497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31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сильные стимулы, способные сподвигнуть на совершенствование профессионального мастерства, выделя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31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зможность самореализации в профессиональной сфер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31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ий характер деятель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31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знание и одобрение со стороны администрации и коллег хорошо выполненной работ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31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формированность о происходящих в профессиональной сфере процессах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31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брожелательные отношения с коллегами и руководителям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31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статочное методическое обеспечение воспитательно-образовательного процес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31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зможность непрерывного образования (повышения квалификаци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читель учится всю жизн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к только он перестаёт учиться, в нём умирает учител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.Д.Ушин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571840" y="212760"/>
            <a:ext cx="442908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rcRect l="3056" t="0" r="0" b="67852"/>
          <a:stretch/>
        </p:blipFill>
        <p:spPr>
          <a:xfrm>
            <a:off x="538200" y="1341360"/>
            <a:ext cx="8236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rcRect l="0" t="29269" r="0" b="31794"/>
          <a:stretch/>
        </p:blipFill>
        <p:spPr>
          <a:xfrm>
            <a:off x="166680" y="692280"/>
            <a:ext cx="8615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3280" t="66155" r="0" b="4366"/>
          <a:stretch/>
        </p:blipFill>
        <p:spPr>
          <a:xfrm>
            <a:off x="182520" y="1557360"/>
            <a:ext cx="8804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9184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иная методическая 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60" indent="3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е психолого-педагогической компетентности участников образовательного процесса как условие повышения качества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60" indent="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360" indent="324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0360" indent="3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360" indent="3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сихолого-педагогических условий процесса непрерывного становления и развития профессиональной компетентности учителя личностно-ориентированного образовательного простран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360" indent="3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360" indent="3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е советы, методические объединения, тренинги, самообразование, индивидуальное и групповое консультирование – объединённые  в програм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360" indent="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360" indent="3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360" indent="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44F2-A441-4F1F-8762-E97B1FB3DAF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еденческие характеристики 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5840" y="1428840"/>
          <a:ext cx="8715240" cy="5311800"/>
        </p:xfrm>
        <a:graphic>
          <a:graphicData uri="http://schemas.openxmlformats.org/drawingml/2006/table">
            <a:tbl>
              <a:tblPr/>
              <a:tblGrid>
                <a:gridCol w="285840"/>
                <a:gridCol w="2857320"/>
                <a:gridCol w="2936880"/>
                <a:gridCol w="2635200"/>
              </a:tblGrid>
              <a:tr h="426960"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ли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как формир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рга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как побужд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редача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меет создать на уроке благоприятный психологический настр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меет найти к ученику индивидуальный подх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монстрирует хорошее знаний предме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праведлив и внимателен по отношению к учащим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меет вызывать на уроке  интерес к изучаемому материалу, ко всему предме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лагает материал ясно и доступ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ционально организует собственное время и дея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асто подбадривает учеников в затруднительных ситуац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меет поддерживать разговор на разные те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 допускает брани в адрес ученик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меет объединить ребят вокруг общей идеи, задачи, ц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 изложении материала побуждает ребят к размышлению над его содержание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являет в работе творческую актив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зывает учеников чаще всего по име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сказывает собственную позицию по тому или иному вопрос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ражает ребят интересом к какому-либо дел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меет снять напряжение и усталость на уро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стаивает свою точку зрения без раздражения и вспыльчив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жет аргументированно и доказательно убедить ребят в необходимости какого-либо дела, поступ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ощряет высказывания учащимися собственной точки з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ргументированно и убедительно говори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вляется для большинства ребят референтным (значимым) человек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влекает детей в работу на урок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ладает культурой реч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857240" y="0"/>
            <a:ext cx="52992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83528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rcRect l="0" t="0" r="0" b="45805"/>
          <a:stretch/>
        </p:blipFill>
        <p:spPr>
          <a:xfrm>
            <a:off x="336600" y="316080"/>
            <a:ext cx="844236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rcRect l="0" t="54083" r="0" b="0"/>
          <a:stretch/>
        </p:blipFill>
        <p:spPr>
          <a:xfrm>
            <a:off x="174600" y="404640"/>
            <a:ext cx="8677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ова М.Г. отмечает, что творчество и профессионализм педагога в полной мере проецируются на личность учащегося только в случае глубокого владения педагогом знаниями предмета с учетом возрастной психологии, методическими знаниями и рекомендациями, знаниями в области прогнозирования и проектирования своих профессиональных действ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фессиональной компетенции педагога определяется не только профессиональными базовыми знаниями и умениями, но и ценностными ориентациями в профессии, характеризующими его мотивы и предпочтения, умение ценить знания, опыт, отношения с людьми в професс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оя педагогическая философи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71720" y="1357200"/>
          <a:ext cx="7858080" cy="5327640"/>
        </p:xfrm>
        <a:graphic>
          <a:graphicData uri="http://schemas.openxmlformats.org/drawingml/2006/table">
            <a:tbl>
              <a:tblPr/>
              <a:tblGrid>
                <a:gridCol w="492120"/>
                <a:gridCol w="7365960"/>
              </a:tblGrid>
              <a:tr h="280800">
                <a:tc gridSpan="2">
                  <a:txBody>
                    <a:bodyPr lIns="54000" rIns="540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317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ему я учу? Распределите цели по важности для ва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Основам научн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рмам поведения, необходимым для жизни в общест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ниманию себя, пониманию других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Применению знаний на практ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Способности отвечать за себя и результаты учебного тр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Ставить цели, планировать свою учебную рабо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Творчеству, самовыраж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Общению, умению взаимодействовать и сотрудничать с другими людь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Формированию предметных и надпредметных учебных навы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Умению видеть, формулировать проблему, предлагать пути ее 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Общечеловеческим ценност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Различным способам мыш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gridSpan="2">
                  <a:txBody>
                    <a:bodyPr lIns="54000" rIns="540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317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   Кого я учу? На кого ориентируюсь при подготовке занят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На все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На од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На индивидуа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На того, кто хочет учить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 группы (какие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857240"/>
            <a:ext cx="81532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сихологические затруднения учителей в организации современного качественного образовательного процесс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уро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чество 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2920" y="1856880"/>
            <a:ext cx="869616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вокупность существенных свойств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соответствующи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ой педагогической те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ниям нормативно-правовых документов, способных удовлетворить образовательные потребности личности, общества и государ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ставляющие качества образовани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результ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компетентности учителей как ведущих субъектов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чество управления ОУ как социальной систем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9EE7-CCFB-4690-AD1E-75089C6F5DD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компетенции современного учите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меть учиться вместе со своими учениками, самостоятельно закрывая свои «образовательные дыры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меть планировать и организовывать самостоятельную деятельность учащихся (помогать учащемуся определять цели и образовательные результаты на языке умений (компетенций)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меть мотивировать учащихся, включая их в разнообразные виды деятельности, позволяющие  наработать им требуемые компетенции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меть сценировать учебный процесс, используя разнообразные формы организации деятельности и включая разных учащихся в разные виды работы и деятельности, учитывая их склонности, индивидуальные особенности и интересы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меть занимать экспертную позицию относительно демонстрируемых учащимся компетенций в разных видах деятельности и оценивать их при помощи соответствующих критериев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меть подмечать склонности учащегося и в соответствии с ними определять наиболее подходящий для него учебный материал или деятельность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ладеть проектным мышлением и уметь руководить групповой проектной деятельностью учащихс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ладеть исследовательским мышлением, умея организовать исследовательскую работу учащихся и руководить ею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спользовать систему оценивания, позволяющую учащимся адекватно оценивать свои достижения и совершенствовать их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меть осуществлять рефлексию своей деятельности и своего поведения  и уметь организовать ее у учащихся в процессе учебных заняти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меть организовать понятийную работу учащихс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Уметь вести занятия в режиме диалога и дискуссии, создавая атмосферу, в которой учащиеся хотели бы высказывать свои сомнения, мнения и точки зрения на обсуждаемый предмет, дискутируя не только между собой, но и с учителем, принимая, что своя собственная точка зрения может быть также подвержена сомнению и критик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ладеть компьютерными технологиями и использовать их в учебном процесс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организации современного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Таблица 3" descr=""/>
          <p:cNvPicPr/>
          <p:nvPr/>
        </p:nvPicPr>
        <p:blipFill>
          <a:blip r:embed="rId1"/>
          <a:stretch/>
        </p:blipFill>
        <p:spPr>
          <a:xfrm>
            <a:off x="244440" y="1689120"/>
            <a:ext cx="8728200" cy="508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289080" y="1714680"/>
          <a:ext cx="8658000" cy="5003640"/>
        </p:xfrm>
        <a:graphic>
          <a:graphicData uri="http://schemas.openxmlformats.org/drawingml/2006/table">
            <a:tbl>
              <a:tblPr/>
              <a:tblGrid>
                <a:gridCol w="8658000"/>
              </a:tblGrid>
              <a:tr h="500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79360" y="1708200"/>
          <a:ext cx="8667720" cy="5048280"/>
        </p:xfrm>
        <a:graphic>
          <a:graphicData uri="http://schemas.openxmlformats.org/drawingml/2006/table">
            <a:tbl>
              <a:tblPr/>
              <a:tblGrid>
                <a:gridCol w="8667720"/>
              </a:tblGrid>
              <a:tr h="504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70000" y="1708200"/>
          <a:ext cx="8715240" cy="5057640"/>
        </p:xfrm>
        <a:graphic>
          <a:graphicData uri="http://schemas.openxmlformats.org/drawingml/2006/table">
            <a:tbl>
              <a:tblPr/>
              <a:tblGrid>
                <a:gridCol w="3498840"/>
                <a:gridCol w="521640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3816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70c0"/>
                      </a:solidFill>
                    </a:lnL>
                    <a:lnR w="38160">
                      <a:solidFill>
                        <a:srgbClr val="0070c0"/>
                      </a:solidFill>
                    </a:lnR>
                    <a:lnT w="3816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60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3816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381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70c0"/>
                      </a:solidFill>
                    </a:lnL>
                    <a:lnR w="3816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381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rcRect l="5226" t="5662" r="4071" b="5484"/>
          <a:stretch/>
        </p:blipFill>
        <p:spPr>
          <a:xfrm>
            <a:off x="865080" y="755640"/>
            <a:ext cx="766764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-360" y="1523880"/>
            <a:ext cx="8839080" cy="22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3" descr=""/>
          <p:cNvPicPr/>
          <p:nvPr/>
        </p:nvPicPr>
        <p:blipFill>
          <a:blip r:embed="rId1"/>
          <a:stretch/>
        </p:blipFill>
        <p:spPr>
          <a:xfrm rot="20754000">
            <a:off x="1112760" y="3384360"/>
            <a:ext cx="2100240" cy="31716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"/>
          <p:cNvPicPr/>
          <p:nvPr/>
        </p:nvPicPr>
        <p:blipFill>
          <a:blip r:embed="rId2"/>
          <a:stretch/>
        </p:blipFill>
        <p:spPr>
          <a:xfrm rot="20802000">
            <a:off x="2023920" y="752040"/>
            <a:ext cx="2119320" cy="2982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"/>
          <p:cNvPicPr/>
          <p:nvPr/>
        </p:nvPicPr>
        <p:blipFill>
          <a:blip r:embed="rId3"/>
          <a:stretch/>
        </p:blipFill>
        <p:spPr>
          <a:xfrm rot="666600">
            <a:off x="5470200" y="731880"/>
            <a:ext cx="1954080" cy="27846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"/>
          <p:cNvPicPr/>
          <p:nvPr/>
        </p:nvPicPr>
        <p:blipFill>
          <a:blip r:embed="rId4"/>
          <a:stretch/>
        </p:blipFill>
        <p:spPr>
          <a:xfrm rot="748200">
            <a:off x="6210000" y="3692520"/>
            <a:ext cx="2279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00040" y="536400"/>
            <a:ext cx="807264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0" t="5795" r="0" b="9638"/>
          <a:stretch/>
        </p:blipFill>
        <p:spPr>
          <a:xfrm>
            <a:off x="311040" y="716040"/>
            <a:ext cx="83646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68000" y="836280"/>
            <a:ext cx="8218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4028" t="8244" r="4417" b="6039"/>
          <a:stretch/>
        </p:blipFill>
        <p:spPr>
          <a:xfrm>
            <a:off x="1247760" y="1146240"/>
            <a:ext cx="71499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57120" y="571320"/>
            <a:ext cx="85154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Н. Никитина и Н.В. Кислинская рассматривают компетентность как сплав теоретической и практической готовности человека к выполнению какой-либо деятельности . Определяя сущность понятия «компетентность», А.М. Новиков исходит из того, что данное понятие имеет целый ряд надпрофессиональных характеристик и, в первую очередь, это такие качества личности, как самостоятельность, способность принимать ответственные решения, творческий подход к любому делу, умение доводить его до конца, умение постоянно учиться. Это гибкость мышления, наличие абстрактного, системного и экспериментального мышления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1268280"/>
            <a:ext cx="8744040" cy="501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Monotype Corsiva"/>
              </a:rPr>
              <a:t>Ваша судьба в ваших руках, меняйте себя, и вы измените окружающий мир.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Ф. Ларошфуко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560" y="33336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332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В.Кузьмина под профессионально-педагогической компетентностью понимает совокупность умений педагога особым образом структурировать научное и практическое знание в целях наилучшего решения педагогических задач. В своих работах она выделяет следующие составляющие педагогической компетент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332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 профессиональная компетентно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 области преподаваемого предмета, дисциплины, который преподает педагог, так и в области способов приобщения к ней учащихся. По мнению автора сюда следует включить как знание самого предмета, так и методики его преподавания, Знание психологии обучения предмету и и знание возрастных и индивидуальных особенностей учащих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332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психологическая компетентность в области процессов общения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компетентность подразумевает умение индивида ориентироваться в социальных ситуациях, определять личностные особенности других людей, выбирать адекватные способы общения с ни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332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 в области способ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знаний, умений у учащихся  (компетентность в выборе средств, методов и форм педагогического воздействи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332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льно-психологическая компетентность 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мотивов, способностей, направленности учащихся (понимание педагогом не только  психологических особенностей самих учащихся, но и особенностей усвоения ими учебного материала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332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психологическая компетентность в обла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инств и недостатков собственной деятельности и личности. Уровень данной компетентности зависит от уровня развития социального интеллекта самого педагога и предполагает не только знание сильных и слабых сторон своей личности, но и знание способов профессионального  самосовершенствования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М. Митина  рассматривает компетенции, как основные педагогические  способности (компетентности), необходимые учителю на урок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особность контролировать уровень знаний учащих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особность устно и письменно предъявлять учащимся материа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особность организовывать работу на урок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особности вести диалог с учащими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пособность использовать различные методы обу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пособность насыщать общение с учащимися положительными эмоциями и чувств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пособность поддерживать дисциплину на уро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ышеперечисленные способности (компетентности) объединяются автором в две основные групп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ические и предметные (компетентности 1,2, 3,5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, позволяющие создать творческую (креативную) атмосферу на уроке (компетентности 4,6,7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в понятие профессиональной компетентности Л.М. Митина включает знания, умения, навыки, а также способы и приемы их реализации в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о-педагогическая  компетентность учителя  (по Галеевой Н.Л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8680" y="1484280"/>
            <a:ext cx="8618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06:19:30Z</dcterms:created>
  <dc:creator>user01</dc:creator>
  <dc:description/>
  <dc:language>en-US</dc:language>
  <cp:lastModifiedBy>Мама</cp:lastModifiedBy>
  <dcterms:modified xsi:type="dcterms:W3CDTF">2019-12-17T17:33:23Z</dcterms:modified>
  <cp:revision>157</cp:revision>
  <dc:subject/>
  <dc:title>Слайд 1</dc:title>
</cp:coreProperties>
</file>