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328-90C0-4B88-8E50-FFFC2C44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11B-0678-4C3D-A3C3-F5C61BE8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256-775D-4124-A3A3-B41DBF05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1DD-268F-46A1-B905-C7086256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F95-0C2C-4930-BEFE-C6C32A35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0B2-1141-4AD0-B3EC-D19E544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DAA-9D8E-47ED-B53D-A768C92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97A-8DAF-45A1-B00D-DCA1AAA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9DE-4941-481D-B4B1-1524C783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775-0C75-4A18-A47E-61535A8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056-7D39-4D51-B971-07C1C56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0BE-142D-401F-94BC-464B79E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ECC6-95B7-4E80-B91B-D967C5F2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4969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номной Республики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64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ымский республиканский институт последипломного педагог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gerbua_3.gif"/>
          <p:cNvPicPr/>
          <p:nvPr/>
        </p:nvPicPr>
        <p:blipFill>
          <a:blip r:embed="rId1"/>
          <a:stretch/>
        </p:blipFill>
        <p:spPr>
          <a:xfrm>
            <a:off x="395280" y="549360"/>
            <a:ext cx="108576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Герб Крыма.gif"/>
          <p:cNvPicPr/>
          <p:nvPr/>
        </p:nvPicPr>
        <p:blipFill>
          <a:blip r:embed="rId2"/>
          <a:stretch/>
        </p:blipFill>
        <p:spPr>
          <a:xfrm>
            <a:off x="7524720" y="476280"/>
            <a:ext cx="127152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84360" y="2997360"/>
            <a:ext cx="431964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8440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5640" y="1915920"/>
            <a:ext cx="65451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ымский республиканский институт последипломного педагогического образования начал свою деятельность на основании решения Совет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родных комиссар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от 17 января 1939 го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Об организации института усовершенствования учи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1992 году Крымский областной институт усовершенствования учителей получил статус Крымского республиканского института повышения квалификации и переподготовки кадров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2000 году в связи с принятием Закона Украины «Об общем среднем образовании» институт был переименован в Крымский республиканский институт последипломного педагогическ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305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920" y="3933720"/>
            <a:ext cx="651672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тор КРИПП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тор филологических наук, профессор Александр Николаевич Рудя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7781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"/>
              </a:rPr>
              <a:t>Памятник крымскому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60872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4032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 2 октября 200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 заслуженный худож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ины, скульптор Серге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РОЙДЕТ НЕМНОГО ВРЕМЕН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ЧЕЛОВЕЧЕСТВО ПОУМНЕЕТ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ПРЕПОДНЕСЕТ УЧИТЕЛ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ФОРМУ ЯРЧЕ И НАРЯ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ГЕНЕРАЛЬС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ПОСКОЛЬКУ НА СЕГОД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УЧИТЕЛЬ – ЭТО ВАЖНЕЙШ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В МИРЕ ПРОФЕСС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(Из кн. братьев Вайне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Black"/>
              </a:rPr>
              <a:t>«Завещание Колумба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9 год – юбилейны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0-летие институ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руктуре КРИП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факуль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сть кафе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мь учебно-методических лаборат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учебно-методических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учебно-методических кабин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ормационно-издатель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78136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Bernard MT Condensed"/>
              </a:rPr>
              <a:t>Специальная учебно-педагогическая библиотека Крымского республиканского института последипломного педагогическ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27367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1197000"/>
            <a:ext cx="7056720" cy="1008000"/>
          </a:xfrm>
          <a:prstGeom prst="rect">
            <a:avLst/>
          </a:prstGeom>
          <a:gradFill rotWithShape="0">
            <a:gsLst>
              <a:gs pos="0">
                <a:srgbClr val="dcdc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Я РАБОТЫ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852640"/>
            <a:ext cx="129708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852640"/>
            <a:ext cx="129708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2852640"/>
            <a:ext cx="1368360" cy="11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852640"/>
            <a:ext cx="1295640" cy="11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0720" y="2852640"/>
            <a:ext cx="1224000" cy="11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2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21:00Z</dcterms:created>
  <dc:creator>Библиотека</dc:creator>
  <dc:description/>
  <dc:language>en-US</dc:language>
  <cp:lastModifiedBy>Библиотека</cp:lastModifiedBy>
  <dcterms:modified xsi:type="dcterms:W3CDTF">2009-11-02T14:47:12Z</dcterms:modified>
  <cp:revision>14</cp:revision>
  <dc:subject/>
  <dc:title>Слайд 1</dc:title>
</cp:coreProperties>
</file>