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27E8-1103-4774-9AC8-425EE45C3A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6C81-77B8-45AE-9FBA-1DCAFAE2B4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6D4-7940-43D4-AC2C-4204496A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EE1-10FF-4BC4-8CD6-A4EDC6F8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CD8-CE03-4AF5-8A3E-A6254221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D9F-CBCD-4088-98BE-A85ED59D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E5CB-AA50-46C0-8777-2661CCF1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1881-4435-4C62-952B-4B8FBFDC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85CA-A9F6-4195-9B31-3F4E731E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C186-401A-4F39-8D18-04109877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B4EA-2A8B-4AFD-A332-0E48F2F8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98C5-AC52-4385-9F3E-FBF901B5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8A1E-4875-41E6-9456-66232B88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1CA-EC9A-4B92-B991-41292A88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1E12-F8B0-4C82-9EBF-44067B0A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3DF9-FAE7-4805-B7FD-4F1E246B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B66C-F547-4B38-9B4F-E76E3669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42CB-6FBB-4994-AC08-63DB0A28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E275-4700-4FB9-846A-AEB80FB2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9F55-96D6-413A-ABD7-F41EE705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E419-AB58-47CD-BC23-59CDAB00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A234-B6E8-4387-88B6-8872C53D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8AE1-D9C5-4D91-BF49-C3B3F267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6C1C1-923B-4C35-8341-FD030699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57F-0B79-4969-9789-349DBAE3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8E40-3AD0-4283-86CB-ABD94250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4A20-162B-4808-BD7C-CC5D5908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4B3D-63DB-4269-A750-306A0A1F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E395-DCCF-4C23-B982-CA8973C7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F17B-7041-4EC0-9836-D5464910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6063-0B3C-4BBB-8429-8AE20112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6131-1464-43B9-8A2C-5BC331AE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FDD3B-91D2-4465-9DD3-A6833A9B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60695-E19C-44D0-8D66-D07FE050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D266B-D093-4BD0-9C7D-34556415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1B0-0D93-4577-B8B7-91EFFB50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A0487-7AB5-4D3A-8B1F-4CC204B7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5E413-385E-4878-A391-4BDC340B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EB95B-33C9-42C7-99BB-B7DA5E74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8FB4-6016-4BC1-8C98-16053FCF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381D-7DF7-45A9-A65C-5249946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8A46-9443-4DF5-AA80-E5AA5FF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F375-1CE6-468B-8A38-4D532074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B4F5-07A1-4505-A46A-6C3D6458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E921B-3F6D-415E-939E-AE84FC53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997-3F27-4E0F-9970-04454C62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DDB-ADE6-4DE5-BC3B-8706BA3F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2DD-642B-4D7C-9C28-609C9BEA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69D-9B1B-4FFE-A92D-B492E00C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780-6040-47F9-A433-6F10B91F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9361-5E08-4FE5-A7D3-EB250DCE8EC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2CB1-4F64-4AF1-AD05-27A22D19085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84B5-D4D5-4B8C-BEC1-068C736517E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DB81-8514-4FF8-AAC1-ACB03C99E69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ДОПОЛНИТЕЛЬНОГО ПРОФЕССИОНАЛЬНОГО ОБРАЗОВАНИЯ РЕСПУБЛИКИ КРЫМ «КРЫМСКИЙ РЕСПУБЛИКАНСКИЙ ИНСТИТУТ ПОСТДИПЛОМНОГО ПЕДАГОГИЧЕСКОГО ОБРАЗОВАНИЯ»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илева Э.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центра развития дошкольного и начального образования   КРИППО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ерополь-202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42800" y="2039760"/>
            <a:ext cx="8064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767160"/>
            <a:ext cx="8229600" cy="5958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360" y="333360"/>
            <a:ext cx="8229600" cy="61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а «Воспитатель года России» в 2020 году стал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женица Антонина Сергеевна, воспитатель МБДО города Керчи Республики Крым «Детский сад комбинированного вида №54 «Калина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хтарова Незире Ремзиевна, воспитатель МБОУ «Дачновская средняя общеобразовательная школа» городского округа Судак детский сад «Капитошка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цкая Людмила Эдуардовна, воспитатель МДОУ города Джанкоя Республики Крым «Детский сад №16 «Ручеек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пак Ирина Леонидовна, воспитатель МБДОУ «Детский сад «Дружба» села Скалистое Бахчисарайского района Республики Кры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ребель Людмила Александровна, воспитатель МБДОУ «Детский сад №13 «Светлячок» города Саки Республики Кры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695880"/>
            <a:ext cx="8229600" cy="5958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333000"/>
            <a:ext cx="820728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«Школа здоровья для маленьких  крымчан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 конкурса :сохранение и укрепление здоровья детей дошкольного возраста, активизация физкультурно-оздоровительной работы в дошкольных образовательных организация Р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921960"/>
            <a:ext cx="8229600" cy="534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бедитель конкурса дошкольных образовательных учреждений Республики Крым «Школа здоровья для маленьких крымчан» в 2020 году в категории дошкольные образовательные организации городских округов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БДОУ «Детский сад общеразвивающего вида №103 «Аврора» муниципального образования городской округ Симферополь Республики Кры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бедитель конкурса дошкольных образовательных учреждений Республики Крым «Школа здоровья для маленьких крымчан» в 2020 году в категории дошкольные образовательные организации муниципальных районов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БОУ «Уваровская средняя общеобразовательная школа-детский сад» Нижнегорского района Республики Кры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850680"/>
            <a:ext cx="822960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7f7f7f"/>
              </a:solidFill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рами Конкурса в категории дошкольные образовательные организации городских округов признан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 29 «Чебурашка» города Евпатории Республики Крым ‒ 2 мест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3 «Березка» города Армянска Республики Крым ‒ 3 мест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рами Конкурса в категории дошкольн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рганизации муниципальных районов признан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«Золотой ключик» с. Мирное» Симферопольского района Республики Крым ‒ 2 мест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Первомайский детский сад №2 «Родничок» Первомайского района Республики Крым» ‒ 3 мест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2443320" y="966960"/>
            <a:ext cx="425736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110484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9640" y="907920"/>
          <a:ext cx="8104320" cy="4778640"/>
        </p:xfrm>
        <a:graphic>
          <a:graphicData uri="http://schemas.openxmlformats.org/drawingml/2006/table">
            <a:tbl>
              <a:tblPr/>
              <a:tblGrid>
                <a:gridCol w="218880"/>
                <a:gridCol w="7666560"/>
                <a:gridCol w="218880"/>
              </a:tblGrid>
              <a:tr h="477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ФЕДЕРАЛЬНЫЙ ЗАКОН ОТ 31 ИЮЛЯ 2020 Г.           N 304-ФЗ "О ВНЕСЕНИИ ИЗМЕНЕНИЙ В ФЕДЕРАЛЬНЫЙ ЗАКОН "ОБ ОБРАЗОВАНИИ В РОССИЙСКОЙ ФЕДЕРАЦИИ" ПО ВОПРОСАМ ВОСПИТАНИЯ ОБУЧАЮЩИХСЯ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76716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4360" y="1699920"/>
            <a:ext cx="7991280" cy="381636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АЯ ПАРЦИАЛЬНАЯ  ПРОГРАММ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ЖДАНСКО-ПАТРИОТИЧЕСКОМУ ВОСПИТАНИЮ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ДОШКОЛЬНОГО ВОЗРАСТА В КРЫМ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рымский веночек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777600"/>
            <a:ext cx="822960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640" y="836640"/>
            <a:ext cx="8229600" cy="568656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Феодос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программа по гражданско-патриотическому воспитанию детей дошкольного возраст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еодосия на ладошках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еропольский  район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программа по гражданско-патриотическому воспитанию детей дошкольного возрас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Маленький гражданин Симферопольского  район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747800"/>
            <a:ext cx="8229600" cy="46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У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 работников  дошкольны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организац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 Кры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сентября 20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ДОПОЛНИТЕЛЬНОГО ПРОФЕССИОНАЛЬНОГО ОБРАЗОВАНИЯ РЕСПУБЛИКИ КРЫМ «КРЫМСКИЙ РЕСПУБЛИКАНСКИЙ ИНСТИТУТ ПОСТДИПЛОМНОГО ПЕДАГОГИЧЕСКОГО ОБРАЗОВАНИЯ»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илева Э.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центра развития дошкольного и начального образования   КРИППО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ерополь-202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42800" y="2039760"/>
            <a:ext cx="8064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59580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404640"/>
            <a:ext cx="8229600" cy="591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фессиональное взаимодействие - важнейшее звено системы непрерывного педагогическо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заимодействие методистов всех уровн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ганизованная система совместных действий, обеспечивающая функционирование, создание условий для оптимального профессионального развития педагогических кадро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755640" y="0"/>
            <a:ext cx="80643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899640"/>
            <a:ext cx="82296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549000"/>
            <a:ext cx="8424720" cy="583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ьная   республиканская модель методической работы - интеграция  всех уровней методическо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провождения  педагогов ДО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исадовы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ьн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:совершенствование профессионального мастерства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ОО действуют  методические  объедине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всех  категорий  педагогических работников ДОО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188360"/>
            <a:ext cx="82296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052640" y="1170000"/>
            <a:ext cx="70387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естиваля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продвижение региональных педагогических инициатив и инноваций в поддержку конкурентоспособности российского образования, публичная демонстрация эффективных образовательных практик крымских педагогов и формирование позитивного отношения к педагогическим инноваци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школа - лучшая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 воспитывая, воспитываем обуч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стречу PISA и TIMS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й компонент в крымском образован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980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19 года в Республике Крым функционирует 16 ресурсных центров на базе дошкольных образовательных учреждений гг. Евпатории, Керчи, Красноперекопска, Симферополя, Феодосии, Саки, Ялты, а также Бахчисарайского, Джанкойского, Красногвардейского и Симферопольского районов (приказы Министерства образования, науки и молодежи Республики Крым от 06.09.2016 №3183 и от 20.02.2019 №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приказом Федерального государственного бюджетного научного учреждения «Институт изучения детства, семьи и воспитания Российской Академии Образования» от 04.09.2018г. № 25/17-4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воен статус инновационных площад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 апробации и внедрению парциальной модульной программы 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E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бразование детей дошкольного и младшего школьного возраста» десяти дошкольным образовательным организациям, осуществляющим деятельность в сфере образования Республики Кры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838800"/>
            <a:ext cx="8229600" cy="59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581120" y="476280"/>
            <a:ext cx="58485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1260000"/>
            <a:ext cx="8229600" cy="6566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404280"/>
            <a:ext cx="8229600" cy="56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БЕДИТЕЛЬ</a:t>
            </a: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гионального этапа Конкур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спитатель МБДОУ «Детский сад «Солнышко» с. Мирное» Симферопольского района Республик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нданова Севиля Аблякимовн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838800"/>
            <a:ext cx="8353440" cy="5958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8000" y="404640"/>
            <a:ext cx="825804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Финалист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курса в 2020 год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сипова Ирина Николаевна, воспитатель МБДОУ «Детский сад №19 «Солнышко» муниципального образования городской округ Ялта Республики Крым, финалист I степен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анус Екатерина Сергеевна, инструктор по физической культуре МБДОУ «Детский сад №11 «Сказка» г. Феодосии Республики Крым», финалист II степен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уденко Марина Валериевна, музыкальный руководитель МБДОУ «Детский сад общеразвивающего типа №107 «Боровичок» муниципального образования городской округ Симферополь Республики Крым, финалист III степен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гапитова Лариса Петровна, воспитатель муниципального бюджетного дошкольного образовательного учреждения МБДОУ «Детский сад №20 имени 1 Мая города Евпатории Республики Крым», финалист IV степен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4:55:07Z</dcterms:created>
  <dc:creator>User</dc:creator>
  <dc:description/>
  <dc:language>en-US</dc:language>
  <cp:lastModifiedBy>Эльвина</cp:lastModifiedBy>
  <dcterms:modified xsi:type="dcterms:W3CDTF">2020-08-26T19:10:30Z</dcterms:modified>
  <cp:revision>296</cp:revision>
  <dc:subject/>
  <dc:title>Федеральный государственный образовательный стандарт дошкольного  образования</dc:title>
</cp:coreProperties>
</file>