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DD2-8E5D-4CF4-B1EB-5DC9F0C7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CBB-F5D9-4AA1-88E5-95AF5DF4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33E-EFD0-46C6-B107-C1E48B5D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84B-A40A-4A55-A505-A657D839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5C1E-E99B-42C3-B3E0-8E298C99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5177-4959-446D-A1C2-40986E94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62F8-D31C-49FB-976C-705284D8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A558-8FF1-4E49-A193-C9CB2D67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1C73-9AAE-4FB3-A1CE-E57AD033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2E4E-FD95-473E-84E8-9DB76447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7672-E321-4EBD-8F11-F7B598D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2CE-C6E1-4627-9319-7080D6C8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E4F0-831C-4322-A337-4261AB23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1E19-1DEA-4CAD-988A-246AFEF4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2D5C-8FFF-449E-B47B-798FB66A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4A27-25DA-4896-A2A9-16D36BA5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3408-F8EB-408E-B043-4E76DC00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38A-3954-43DC-A04B-4BAD457D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E38-CF78-4959-9E50-FA2D4DE0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4B6-B3CA-4093-8642-C908CE5E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14B-E63A-46C6-A810-5E3DAE45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DCB-7009-4A1F-89D3-3CC4A5C3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B78-47EA-4BCF-ABD9-FA2379C3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520-3794-446B-90E8-9A0B8136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A228-D445-4960-B1B3-612C5E301E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06D5-0B10-4466-8E58-AB41E9038F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Times New Roman"/>
                <a:ea typeface="Calibri"/>
              </a:rPr>
              <a:t>ГБОУ ДПО РК КРИППО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b9efee"/>
                </a:solidFill>
                <a:latin typeface="Times New Roman"/>
                <a:ea typeface="Calibri"/>
              </a:rPr>
              <a:t>Организация методической работы    с педагогическими работниками</a:t>
            </a:r>
            <a:br>
              <a:rPr sz="2800"/>
            </a:br>
            <a:r>
              <a:rPr b="1" lang="ru-RU" sz="3600" spc="-1" strike="noStrike">
                <a:solidFill>
                  <a:srgbClr val="b9efee"/>
                </a:solidFill>
                <a:latin typeface="Times New Roman"/>
                <a:ea typeface="Calibri"/>
              </a:rPr>
              <a:t>на этапе реализации ФГОС ДО</a:t>
            </a:r>
            <a:br>
              <a:rPr sz="36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Calibri"/>
                <a:ea typeface="Calibri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Красёха М.Н., методист ЦРДНО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77708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Формы методической работы   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по способу организации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(коллективные, групповые, индивидуальные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-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по степени активности участников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(пассивные, активные, интерактивные)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1680" y="25992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Активные и интерактивные формы обучения педагогов способству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созданию атмосферы, снимающей у взрослых напряженность и тревожность в связи с включением в образовательную деятельность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повышению    уровня    активности, самостоятельности, стремления к сотрудничеству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стимулированию интереса и мотивации педагогов к самообразованию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повышению профессионального мастерства педагогических работников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развитию навыков рефлексии собственной педагогической деятельн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В 2020/2021 учебном году предлагаем организовать деятельность методических формирований по единой теме: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«Повышение профессиональной компетентности руководителей и специалистов дошкольных образовательных организаций в условиях обновления содержания дошкольного образования посредством использования разных форм методической работ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9440" y="33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Задачи методической деятельности с педагогическими работниками ДОО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в 2020/2021 учебном году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- сохранение доступности образования для воспитанников раннего и дошкольного возраста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- обеспечение здоровьесберегающей направленности воспитательно-образовательного процесса в дошкольных образовательных организациях на основе межведомственного взаимодействия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- совершенствование качества образовательного процесса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7" descr="28e0ad175bdd копия"/>
          <p:cNvPicPr/>
          <p:nvPr/>
        </p:nvPicPr>
        <p:blipFill>
          <a:blip r:embed="rId1"/>
          <a:srcRect l="0" t="12067" r="0" b="9270"/>
          <a:stretch/>
        </p:blipFill>
        <p:spPr>
          <a:xfrm>
            <a:off x="5219640" y="5229360"/>
            <a:ext cx="338940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79898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В рамках методической работ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в 2020/2021 учебном году                                         следует продолжить работ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108000" y="2060640"/>
            <a:ext cx="90360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организации образовательного процесса на родном языке в дошкольных образовательных организациях с русским языком обучения;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формированию основ безопасной жизнедеятельности у воспитанников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созданию условий для экономического воспитания и основ финансовой грамотности детей дошкольного возраста;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организации развивающей предметно-пространственной среды в дошкольных образовательных организациях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организации     альтернативных форм дошкольного образовани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47160" cy="10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 </a:t>
            </a:r>
            <a:br>
              <a:rPr sz="40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Приоритетные задачи в деятельности дошкольных образовательных организаций в условиях реализации ФГОС ДО в 2020/2021 учебном году</a:t>
            </a: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br>
              <a:rPr sz="20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628640"/>
            <a:ext cx="8291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повышение профессиональной компетентности педагогических работников с учетом требований ФГОС ДО и возможностей образовательного пространства ДОО, в том числе с применением дистанционных технологий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совершенствование работы дошкольных образовательных организаций по укреплению здоровья воспитанников посредством создания системы формирования культуры здоровья и безопасного образа жизни у всех участников образовательного процесс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активизация работы по освоению новых педагогических технологий, инновационных образовательных программ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развитие ответственных и взаимозависимых отношений с семьями воспитанников, обеспечивающие развитие личности ребенка в процессе реализации традиционных и инновационных форм сотрудничества, в том числе дистанционны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развитие системы дополнительного образования дет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99"/>
                </a:solidFill>
                <a:latin typeface="Garamond"/>
              </a:rPr>
              <a:t>Успехов в работе!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Picture 3" descr="DSC04332"/>
          <p:cNvPicPr/>
          <p:nvPr/>
        </p:nvPicPr>
        <p:blipFill>
          <a:blip r:embed="rId1"/>
          <a:stretch/>
        </p:blipFill>
        <p:spPr>
          <a:xfrm>
            <a:off x="1042920" y="1916280"/>
            <a:ext cx="7056360" cy="46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9:01:37Z</dcterms:created>
  <dc:creator>Оля</dc:creator>
  <dc:description/>
  <dc:language>en-US</dc:language>
  <cp:lastModifiedBy>Татьяна</cp:lastModifiedBy>
  <dcterms:modified xsi:type="dcterms:W3CDTF">2020-09-01T08:06:14Z</dcterms:modified>
  <cp:revision>58</cp:revision>
  <dc:subject/>
  <dc:title>Слайд 1</dc:title>
</cp:coreProperties>
</file>