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02AE-35F5-4FFB-A7E6-618F14FF0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0BB9-FE8C-487E-85DF-5DB622D8B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F4E4-5457-42F7-9478-E3387379F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1CFC-37D2-45E5-9307-9B9BF8F9C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189000"/>
            <a:ext cx="1003320" cy="1244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7308720" y="6453360"/>
            <a:ext cx="1625760" cy="228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4"/>
          <a:stretch/>
        </p:blipFill>
        <p:spPr>
          <a:xfrm>
            <a:off x="52560" y="189000"/>
            <a:ext cx="1002960" cy="124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52560" y="189000"/>
            <a:ext cx="1002960" cy="1244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7308720" y="6453360"/>
            <a:ext cx="1625760" cy="22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8042400" cy="804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76720" y="4076280"/>
            <a:ext cx="3167280" cy="21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ыбулько Ирин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й предметной комиссии разработчиков ЕГЭ по русскому языку, ведущий научный сотрудник Ф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11280" y="1628640"/>
            <a:ext cx="777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928800" y="134136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тодическое обеспечение проверки развёрнутого ответа на задание 25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диного государственного экзамена 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русскому языку в 2015 году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1187280" y="981000"/>
            <a:ext cx="756144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85840" algn="just">
              <a:spcBef>
                <a:spcPts val="601"/>
              </a:spcBef>
              <a:buClr>
                <a:srgbClr val="99284c"/>
              </a:buClr>
              <a:buSzPct val="75000"/>
              <a:buFont typeface="Arial"/>
              <a:buChar char="•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426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Необходимо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читать сло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 работе. При подсчёте слов  учитываются как самостоятельные, так и служебные части речи. Подсчитывается любая последовательность слов, написанных без пробела. Инициалы с фамилией считаются одним словом (например, М.Ю.Лермонтов). Любые другие символы, в частности цифры, при подсчёте не учитываются (например, 5 лет – одно слово, пять лет – два слова)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85840" algn="just">
              <a:spcBef>
                <a:spcPts val="601"/>
              </a:spcBef>
              <a:buClr>
                <a:srgbClr val="99284c"/>
              </a:buClr>
              <a:buSzPct val="75000"/>
              <a:buFont typeface="Arial"/>
              <a:buChar char="•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426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в работе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менее 150 с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, то критерии проверки иные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85840" algn="just">
              <a:spcBef>
                <a:spcPts val="601"/>
              </a:spcBef>
              <a:buClr>
                <a:srgbClr val="99284c"/>
              </a:buClr>
              <a:buSzPct val="75000"/>
              <a:buFont typeface="Arial"/>
              <a:buChar char="•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426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сочинение содержит частично или полностью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переписанны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экзаменуемым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текст реценз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задания 24 и/или информации об авторе текста, то объём такой работы определяется без учёта текста рецензии и/или информации об авторе текста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85840" algn="just">
              <a:spcBef>
                <a:spcPts val="601"/>
              </a:spcBef>
              <a:buClr>
                <a:srgbClr val="99284c"/>
              </a:buClr>
              <a:buSzPct val="75000"/>
              <a:buFont typeface="Arial"/>
              <a:buChar char="•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426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сочинение представляет собой пересказанный или полност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переписанный исходный текст без каких бы то ни было комментарие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, 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такая работа по всем аспектам проверки (К1−К12) оценивается нулём балл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85840" algn="just">
              <a:spcBef>
                <a:spcPts val="601"/>
              </a:spcBef>
              <a:buClr>
                <a:srgbClr val="99284c"/>
              </a:buClr>
              <a:buSzPct val="75000"/>
              <a:buFont typeface="Arial"/>
              <a:buChar char="•"/>
              <a:tabLst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426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Работа, написанная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без опоры на прочитанный текс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не по данному тексту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ценив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нулём балл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285840" algn="just">
              <a:spcBef>
                <a:spcPts val="601"/>
              </a:spcBef>
              <a:tabLst>
                <a:tab algn="l" pos="0"/>
                <a:tab algn="l" pos="498600"/>
                <a:tab algn="l" pos="955800"/>
                <a:tab algn="l" pos="1413000"/>
                <a:tab algn="l" pos="1870200"/>
                <a:tab algn="l" pos="2327400"/>
                <a:tab algn="l" pos="2784600"/>
                <a:tab algn="l" pos="3241800"/>
                <a:tab algn="l" pos="3699000"/>
                <a:tab algn="l" pos="4156200"/>
                <a:tab algn="l" pos="4613400"/>
                <a:tab algn="l" pos="5070600"/>
                <a:tab algn="l" pos="5527800"/>
                <a:tab algn="l" pos="5985000"/>
                <a:tab algn="l" pos="6442200"/>
                <a:tab algn="l" pos="6899400"/>
                <a:tab algn="l" pos="7356600"/>
                <a:tab algn="l" pos="7813800"/>
                <a:tab algn="l" pos="8271000"/>
                <a:tab algn="l" pos="8728200"/>
                <a:tab algn="l" pos="9185400"/>
                <a:tab algn="l" pos="96426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280" y="1052640"/>
            <a:ext cx="7124760" cy="129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открытого типа с развернутым ответом – это сочинение на основе предложенного текста. Задание проверяет сформированность у экзаменуемых отдельных коммуникативных умений и навыков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47280" y="2420640"/>
            <a:ext cx="727236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нализировать содержание и проблематику прочитанного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комментировать проблемы исходного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пределять позицию автора текста по заявленной пробл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ражать и аргументировать собственное м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оследовательно и логично излагать мыс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использовать в речи разнообразные грамматические формы и лексическое богатство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актическую грамотность – навыки оформления высказывания в соответствии с орфографическими, пунктуационными, грамматическими и лексическими нормами современного русского литературн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ие критерии оценивания сочинения-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763272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900000" y="1700280"/>
            <a:ext cx="73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ценки сочинения применяется сочетание двух рейтинговых шкал в системе, специально разработанной для измерения различных сторон коммуникативной подготовки учащихся. Система предусматривает словесное описание критериев оценивания развернутого ответа (сочинения) и цифровую характеристику нормативов оценки по каждому критерию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 оценивания сочинения включает критерии, отражающие требования к различным составляющим коммуникативной компетенции учащихся. Каждый критерий в зависимости от его значимости оценивается рейтинговой шкалой различной длины: 3–0. Максимальное количество баллов, которое можно набрать за эту часть работы, – 23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71485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1. Формулировка проблемы исходного текс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Объект 4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94216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332000" y="2133720"/>
          <a:ext cx="6119640" cy="2757240"/>
        </p:xfrm>
        <a:graphic>
          <a:graphicData uri="http://schemas.openxmlformats.org/drawingml/2006/table">
            <a:tbl>
              <a:tblPr/>
              <a:tblGrid>
                <a:gridCol w="3060720"/>
                <a:gridCol w="3058920"/>
              </a:tblGrid>
              <a:tr h="474480">
                <a:tc>
                  <a:txBody>
                    <a:bodyPr lIns="71640" rIns="71640" tIns="71640" bIns="71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ый круг пробл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1640" marR="71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1640" rIns="71640" tIns="71640" bIns="71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ская пози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1640" marR="71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8000">
                <a:tc>
                  <a:txBody>
                    <a:bodyPr lIns="71640" rIns="71640" tIns="71640" bIns="71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 Роль чтения в детстве – в период становлении личности челове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1640" marR="71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1640" rIns="71640" tIns="71640" bIns="71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 Общение с книгой особенно важно в детстве, в период формирования личности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1640" marR="71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74760">
                <a:tc>
                  <a:txBody>
                    <a:bodyPr lIns="71640" rIns="71640" tIns="71640" bIns="71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 Проблема влияния книги на судьбу человека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1640" marR="71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1640" rIns="71640" tIns="71640" bIns="71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 Вовремя прочитанная книга может определить психологию, мировоззрение, нравственные принципы человека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1640" marR="71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4" name="Прямоугольник 6"/>
          <p:cNvSpPr/>
          <p:nvPr/>
        </p:nvSpPr>
        <p:spPr>
          <a:xfrm>
            <a:off x="1979640" y="10270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Формулировка проблем исходного текст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V="1" rot="10800000">
            <a:off x="1332000" y="4993200"/>
            <a:ext cx="72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ля формулировки проблемы экзаменуемым может быть использована лексика, отличающаяся от той, которая представлена в таблице. Проблема может быть также  процитирована по исходному тексту или указана с помощью ссылок на номера предложений в тексте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"/>
          <p:cNvPicPr/>
          <p:nvPr/>
        </p:nvPicPr>
        <p:blipFill>
          <a:blip r:embed="rId1"/>
          <a:srcRect l="7126" t="247" r="667" b="20776"/>
          <a:stretch/>
        </p:blipFill>
        <p:spPr>
          <a:xfrm>
            <a:off x="1239840" y="1405080"/>
            <a:ext cx="6664320" cy="491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7" name="Прямоугольник 2"/>
          <p:cNvSpPr/>
          <p:nvPr/>
        </p:nvSpPr>
        <p:spPr>
          <a:xfrm>
            <a:off x="2286000" y="549360"/>
            <a:ext cx="49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омментари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2050920" y="47628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Отражение позиции автора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Объект 12"/>
          <p:cNvGraphicFramePr/>
          <p:nvPr/>
        </p:nvGraphicFramePr>
        <p:xfrm>
          <a:off x="1908000" y="1125360"/>
          <a:ext cx="5902560" cy="17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25360"/>
                    <a:ext cx="5902560" cy="1789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Прямоугольник 13"/>
          <p:cNvSpPr/>
          <p:nvPr/>
        </p:nvSpPr>
        <p:spPr>
          <a:xfrm>
            <a:off x="1835280" y="3141720"/>
            <a:ext cx="59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Для экспертов по каждому исходному тексту дается информация о тексте в табличной форме, отражающая основные проблемы и позицию автора по каждой из них.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1332000" y="896760"/>
            <a:ext cx="6462720" cy="4837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33" name="Прямоугольник 2"/>
          <p:cNvSpPr/>
          <p:nvPr/>
        </p:nvSpPr>
        <p:spPr>
          <a:xfrm>
            <a:off x="2286000" y="549360"/>
            <a:ext cx="49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Аргументац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 flipV="1" rot="11451000">
            <a:off x="5356080" y="5463360"/>
            <a:ext cx="37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ценку нравственной позиции экзаменуемого эксперт не даёт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650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008080" y="1700280"/>
            <a:ext cx="5329440" cy="4921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3"/>
          <p:cNvSpPr/>
          <p:nvPr/>
        </p:nvSpPr>
        <p:spPr>
          <a:xfrm>
            <a:off x="2050920" y="620640"/>
            <a:ext cx="52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верка фактической точности в работе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704000" cy="165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ая итоговая аттест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русскому язык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2491920"/>
            <a:ext cx="3600360" cy="302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диный государственный экзамен (11 клас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значение работ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– оценить подготовку выпускников средней школы по русскому языку с целью их итоговой аттестации и отбора абитуриентов для поступления в вузы и сс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3280" y="2491920"/>
            <a:ext cx="3598920" cy="309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ая     (итоговая) аттестации в 9 классе по рус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значение работ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–оценить подготовку выпускников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классов по русскому языку с целью их итоговой аттестации за курс основ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щеобразовательно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268360" y="2133720"/>
            <a:ext cx="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6659640" y="2133720"/>
            <a:ext cx="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870600" cy="38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3"/>
          <p:cNvSpPr/>
          <p:nvPr/>
        </p:nvSpPr>
        <p:spPr>
          <a:xfrm>
            <a:off x="1187280" y="404640"/>
            <a:ext cx="684072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MS Gothic"/>
              </a:rPr>
              <a:t>Ошибки по критерию К5: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Ошибки в целостности текст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Грубые логически ошибки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MS Gothic"/>
              </a:rPr>
              <a:t>Предметом повествования являются времена достаточно отдаленные, что позволяет предположить не чересчур молодой возраст автора. Однако темпераментностью, свежестью страницы привлекают к себе внимание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Композиционно-текстовые логические ошибки (прежде всего бессвязности, т.е. отсутствия средств связи)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Ошибки абзацного член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1498680" y="1484280"/>
            <a:ext cx="6465960" cy="31687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"/>
          <p:cNvSpPr/>
          <p:nvPr/>
        </p:nvSpPr>
        <p:spPr>
          <a:xfrm rot="489000">
            <a:off x="4270680" y="4551120"/>
            <a:ext cx="4656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заимосвязь критериев К6 и К10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нижение только по высшему баллу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1116000" y="836640"/>
            <a:ext cx="691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7–К10. Грамотность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мотность речи оценивается (от 3 до  0 баллов) по количеству ошибок и недочетов, допущенных учащимся в тексте письменной работы (см. Таблицу критериев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ка проведения экзаменационного тестирования показала, что при проверке и оценке задания с развернутым ответом (сочинения) эксперты испытывают определенные затруднения при квалификации ошибок в письменной речи учащихся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Рекомендации по квалификации ошибок: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бно-методические материалы для председателей и членов региональных предметных комиссий по проверке выполнения заданий с развернутым ответом экзаменационных работ ЕГЭ 2015 года по русскому языку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амятка для эксперта, проверяющего ответ на задание 25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единого государственного экзамена по русскому языку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476360" y="105084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школе изучаются далеко не все тонкости русской орфографии и пунктуации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которые правила русского правописания предоставляют пишущему возможность выбора написания и способа пунктуационного оформления синтаксической конструкции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омендации словарей и справочников по правописанию не всегда совпадают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ествуют объективные трудности орфографии и пунктуации, связанные с переходностью языковых явлений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екоторых случаях возможно двоякое объяснение синтаксической структуры предложения и, соответственно, разная пунктуация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2124000" y="404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т при проверке должен учитывать следующее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1619280" y="18748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оценку сочинения распространяются положения об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днотипных и негрубых ошибках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498680" y="95076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еди ошибок следует выделят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негрубы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т. е. не имеющие существенного значения для характеристики грамотности. При подсчете ошибок две негрубые считаются за одну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1403280" y="262404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днотипным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считаются ошибки на одно правило, если условия выбора правильного написания заключены в грамматических (в армии, в роще; колют, борются) и фонетических (пирожок, сверчок) особенностях данного слова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 считаются однотипными ошибки на такое правило, в котором для выяснения правильного написания одного слова требуется подобрать другое (опорное) слово или его форму (вода – воды, рот – ротик, грустный – грустить, резкий – резок)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вые три однотипные ошибки считаются за одну ошибку, каждая следующая подобная ошибка учитывается как самостоятельная. Если в одном непроверяемом слове допущены две и более ошибки, то все они считаются за одну ошибку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1619280" y="1890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шибки, которы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не должны влиять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оценку грамотности (исправляются, но не  учитываются при проверке)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1042920" y="333360"/>
            <a:ext cx="7201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MS Gothic"/>
              </a:rPr>
              <a:t>Фактическая ошибк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«Гете – французский писатель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«Столица США – Нью-Йорк»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«Много сил и энергии отдает детям директор школы: построена школа, которая каждый год выпускает около тысячи учеников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1187280" y="1312920"/>
            <a:ext cx="698508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MS Gothic"/>
              </a:rPr>
              <a:t>Этическая ошибк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«Этот текст меня бесит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«Судя по тому, что говорит автор, он маньяк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«Михалков в своём репертуаре! Пишет детские книги, поэтому и требует, чтобы читали именно в детстве. Это настоящий пиар! Нечего морочить людям мозги устаревшими истинами»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360" y="1920960"/>
            <a:ext cx="8229600" cy="4937040"/>
          </a:xfrm>
          <a:prstGeom prst="rect">
            <a:avLst/>
          </a:prstGeom>
          <a:solidFill>
            <a:srgbClr val="f3f9f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подробную информацию об изменениях в ЕГЭ 2015 года можно найти в разделе «Демоверсии, спецификации, кодификаторы 2015»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некоторым аспектам совершенствования преподавания общеобразовательных предметов (на основе анализа ЕГЭ 2014). Русский язы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е материалы для председателей и членов региональных предметных комиссий по проверке выполнения заданий с развернутым ответом экзаменационных работ ЕГЭ 2015 года по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ww.fipi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7077240" cy="72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нцептуальные подходы к построению экзаменационной  модели ГИА (ЕГЭ и ОГЭ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русскому я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мпетентност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хо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грирова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ммуникативно-деятельност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гнитивный подхо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ичностный подхо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редполагающий ориентацию экзаменационной модели на запросы, возможности экзаменуемого, адаптивность модели к уровням подготовки и интеллектуальным возможностям выпуск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Э по русскому языку 2015 г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58560" y="1916280"/>
            <a:ext cx="7489800" cy="3241440"/>
          </a:xfrm>
          <a:prstGeom prst="rect">
            <a:avLst/>
          </a:prstGeom>
          <a:solidFill>
            <a:srgbClr val="f3f9fa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вязи с необходимостью дифференциации проверки содержан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мках государственной итоговой аттестации содержания обучения за курс основной (ОГЭ) и средней (полной) школы (ЕГЭ) пересмотрено содержание экзаменацион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ён формат заданий работы (отсутствуют задания с выбором отве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ён первичный балл выполнения работы (с 64 до 5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верке понимания лексического значения слова в содержание экзаменационного теста включена работа со словарной статьё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илось количество частей и заданий в экзаменационной работ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221600" cy="151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заданий по основным содержательным разделам учебного предмета «Русский язык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76360" y="2421000"/>
          <a:ext cx="7056360" cy="3754440"/>
        </p:xfrm>
        <a:graphic>
          <a:graphicData uri="http://schemas.openxmlformats.org/drawingml/2006/table">
            <a:tbl>
              <a:tblPr/>
              <a:tblGrid>
                <a:gridCol w="2943360"/>
                <a:gridCol w="817560"/>
                <a:gridCol w="817560"/>
                <a:gridCol w="2477880"/>
              </a:tblGrid>
              <a:tr h="15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5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тельные раздел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5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­чество зада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5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-маль-ный первич-ный бал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5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максимального первичного балла за задания данного блока содержания от макси­мального первичного балла за всю работу, равного 56 балла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. Текст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ctr" pos="969840"/>
                          <a:tab algn="l" pos="133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ка и фразеолог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. Нормы орфограф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. Нормы пункту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. Языковые норм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. Выразительность русской ре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чи. Сочинени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712944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ределение задани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частям экзаменационной рабо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58920" y="2565360"/>
          <a:ext cx="7129440" cy="2735280"/>
        </p:xfrm>
        <a:graphic>
          <a:graphicData uri="http://schemas.openxmlformats.org/drawingml/2006/table">
            <a:tbl>
              <a:tblPr/>
              <a:tblGrid>
                <a:gridCol w="745920"/>
                <a:gridCol w="920880"/>
                <a:gridCol w="1241640"/>
                <a:gridCol w="2276280"/>
                <a:gridCol w="1944720"/>
              </a:tblGrid>
              <a:tr h="149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работ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да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первичный бал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максимального первичного балла за задания данной части от максимального первичного балла за всю работу, равного 56 балла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им ответо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ёрнутым ответо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9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777080" cy="72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ция эксперта региональной предметной комиссии по русскому язык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6920" y="1700280"/>
            <a:ext cx="77058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формулировка задания с развёрнутым ответ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текст, на основе которого создаётся экзаменационное сочинение; информация об авторе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текст рецензии задания 24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информация о тек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бщие критериями оценивания ответа на задание 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токол проверки ответов на задание бланка №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амятка для эксперта, проверяющего ответ на задание 25 по русскому язы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работа экзаменуем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 качестве справочного материала эксперту желательно иметь под рукой различные словари и справоч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360" y="907920"/>
            <a:ext cx="7051680" cy="64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ерт должен уметь проводить стандартизированную процедуру проверки и перепроверки сочин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42920" y="1915920"/>
            <a:ext cx="785016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ледовать инструкциям, регламентирующими процедуру проверки и оценки развёрнутых отв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авильно оформлять протоколы проверки и оценки развёрнутых ответов  экзаменуем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верять сочинение по составляющим коммуникативной компет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именять критерии и нормативы оценки каждого из предъявленных  в системе оценивания речевых ум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меть разграничивать ошибки и недочёты различного типа; выявлять в работе экзаменуемого однотипные и негрубые оши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авильно квалифицировать ошибки в сочинениях экзаменуем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бобщать результаты проверки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облюдать требования информационной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900000" y="981000"/>
            <a:ext cx="741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25 проверяется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двумя экспертам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основе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бщих критерие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енивания. Пр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ущественном расхожден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ценке экспертов  назначается третий эксперт. Существенным расхождением считается расхождение в 8 и более первичных баллов между суммами баллов, выставленных  1-ым и 2-ым экспертом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ерты работают с отсканированной шифрованной работой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роверке сочинения следует исходить из того, что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ценивается не работа в целом, а умения и навыки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ставляющие коммуникативную компетенцию. Работа оценивается отдельно по каждому критерию.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ряя работу, эксперт выносит на поля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вычные зна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принятой квалификацией ошибок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участник ЕГЭ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не приступа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к выполнению задания, то в поле, в котором должен стоять балл за данный ответ на задание в бланке-протоколе, следует поставить  крестик (Х)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Необходимо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полностью проверять каждую работ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, отмечать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MS Gothic"/>
              </a:rPr>
              <a:t>ВС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шибки, допущенные в работе, квалифицируя их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2"/>
          <p:cNvSpPr/>
          <p:nvPr/>
        </p:nvSpPr>
        <p:spPr>
          <a:xfrm flipV="1" rot="10800000">
            <a:off x="1618920" y="345600"/>
            <a:ext cx="6086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MS Gothic"/>
              </a:rPr>
              <a:t>Общие подходы к проверке задания 25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Anna</cp:lastModifiedBy>
  <dcterms:modified xsi:type="dcterms:W3CDTF">2015-04-15T06:01:25Z</dcterms:modified>
  <cp:revision>404</cp:revision>
  <dc:subject/>
  <dc:title>Презентация PowerPoint</dc:title>
</cp:coreProperties>
</file>